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B16F-5504-4598-9ECA-10BCA4012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1111-7136-4D0E-A64B-3FC4C6764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D60C-9221-458C-BC32-B8AD4673A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3D68-0A2D-43BA-B816-F8FAF99F6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D97F-821C-49B5-AEAC-01A869AC9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81C3-EA45-4680-9B76-99B355629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63E6-E9D2-4556-8C2C-85CA425B3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102E-A10A-44B2-96AA-75EEDF53A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270E-0D41-4911-8B93-87CEAE0ED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744F-54F4-4447-A3FF-948468682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6BA8-CADE-4C92-8CC4-1D76874C9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551D-85C7-4571-83CC-6E85D1E3F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B48F-5BAB-41CD-BCFD-3C1C12250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DD3B-D347-42F3-A57F-93DF7BF93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1BE0-7C1F-4CFF-ADEE-125E521D7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07D7-C2A1-4CDC-A66D-4550AFE90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3898-018E-4440-ADF3-3841A9B1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6F7E-3F96-4675-91AC-EC768219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AE2F-BBAD-4CC5-B407-C790B588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6C8-7A94-4A9A-B498-1AB2AC1F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4B3-F4B6-4F0E-8003-2CB27F68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0DAE-C0E7-40B3-9DE6-460A93FB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D99-10AB-4641-A480-C4B56200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405-8B9C-49B0-BA77-C56D0356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CD5-3D35-4FED-858C-937D85DF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2034-DF0E-4056-BCC4-4A40B35E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B94D-5522-476B-8447-1C7FEB0C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602-A199-4011-B7E2-794C495F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644C-00BC-4685-AEBF-B42387831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60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artment buildings are the norm in urban areas; freestanding houses with yards are extremely rare. Instead, people dry clothes and grow plants on their balconies, in windows, or in patio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rcelona, La Garriga, and Madrid, Spai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28600" y="114300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Housing Exteri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homeext_spain_ligairi_09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homeext_spain_ligairi_10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homeext_spain_ligairi_11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homeext_spain_ligairi_12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homeext_spain_ligairi_13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60a7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GPP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homeext_spain_ligairi_01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omeext_spain_ligairi_02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omeext_spain_ligairi_03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homeext_spain_ligairi_04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homeext_spain_ligairi_05_RS.jpg"/>
          <p:cNvPicPr/>
          <p:nvPr/>
        </p:nvPicPr>
        <p:blipFill>
          <a:blip r:embed="rId1"/>
          <a:stretch/>
        </p:blipFill>
        <p:spPr>
          <a:xfrm>
            <a:off x="2857680" y="1143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homeext_spain_ligairi_06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homeext_spain_ligairi_07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homeext_spain_ligairi_08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2:49:49Z</dcterms:created>
  <dc:creator>pq</dc:creator>
  <dc:description/>
  <dc:language>en-US</dc:language>
  <cp:lastModifiedBy>Marlene Knobbe</cp:lastModifiedBy>
  <dcterms:modified xsi:type="dcterms:W3CDTF">2009-05-24T18:53:25Z</dcterms:modified>
  <cp:revision>14</cp:revision>
  <dc:subject/>
  <dc:title>The Chocolatería San Ginés, established in 1894 and located just off Madrid’s Plaza Mayor, is open all night. It is a favorite spot to enjoy hot chocolate (as thick as melted candy bars) and churros (twisted, fried dough covered in sugar) after a night of disco hopping. (Madrid, Spain)  </dc:title>
</cp:coreProperties>
</file>