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2352-AA76-431F-A601-4F051CB28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1D56-52D1-4EAA-8AE1-38C42892A9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635C-CE5B-4B30-B1B6-F2C457A00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CC31-E544-4350-B6A4-26A365B0F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B86B-C7D4-431C-B120-C799A936B3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5743-B049-4770-B45E-F84DA132A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E216-EC07-4B3B-94C6-7CF332D96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266C-559B-486A-B713-B8E777D44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1734-8933-45F5-B2FA-F2ED36335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D390-A83C-4EDD-BDFD-0606A1610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F66B-E550-4993-81CE-4B8FC84FB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007E-AF89-4FB9-910C-92A895D14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B6BF-6C89-4F9B-8D0F-24DE856AA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4C18-5384-4F90-8188-D01A981EB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E4B5-68F3-42EB-87DA-98818711B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A0F5-E1C5-4325-AC29-477BAAD50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193-F3CD-46C8-B8BC-80159DE4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4DC-085B-4B0F-8C08-B5DFA881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C66-F2C5-4CA7-B607-1A9B1794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068-7797-4115-A911-979B0B38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DC4-3706-4510-8AA0-1484B2BB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3EC-B3EF-4257-B91B-95F8F239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F1B-4B19-4595-B1A0-3BC234C2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3FB-D279-4A8B-9970-7831C8CD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16C-C445-4619-9EBA-4B2BCD5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1A2-68AF-4384-8137-BA60B55C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001-7A79-4CF7-948D-EDD9537B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027-9AA2-4CEA-98C8-BB0AB04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53B0-DCC8-48D1-8449-0C9989B58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artment buildings are the norm in urban areas; freestanding houses with yards are extremely rare. Instead, people dry clothes and grow plants on their balconies, in windows, or in patio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rcelona, La Garriga, and Madrid, Spai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228600" y="114300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Housing Exterio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omeext_spain_ligairi_09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homeext_spain_ligairi_10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homeext_spain_ligairi_1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homeext_spain_ligairi_1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homeext_spain_ligairi_1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60a7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GPPLog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omeext_spain_ligairi_01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omeext_spain_ligairi_02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omeext_spain_ligairi_03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homeext_spain_ligairi_04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omeext_spain_ligairi_05_RS.jpg"/>
          <p:cNvPicPr/>
          <p:nvPr/>
        </p:nvPicPr>
        <p:blipFill>
          <a:blip r:embed="rId1"/>
          <a:stretch/>
        </p:blipFill>
        <p:spPr>
          <a:xfrm>
            <a:off x="2857680" y="1143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omeext_spain_ligairi_06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homeext_spain_ligairi_07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omeext_spain_ligairi_08_RS.jpg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22:49:49Z</dcterms:created>
  <dc:creator>pq</dc:creator>
  <dc:description/>
  <dc:language>en-US</dc:language>
  <cp:lastModifiedBy>Marlene Knobbe</cp:lastModifiedBy>
  <dcterms:modified xsi:type="dcterms:W3CDTF">2009-05-24T18:53:25Z</dcterms:modified>
  <cp:revision>14</cp:revision>
  <dc:subject/>
  <dc:title>The Chocolatería San Ginés, established in 1894 and located just off Madrid’s Plaza Mayor, is open all night. It is a favorite spot to enjoy hot chocolate (as thick as melted candy bars) and churros (twisted, fried dough covered in sugar) after a night of disco hopping. (Madrid, Spain)  </dc:title>
</cp:coreProperties>
</file>