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B760-F34C-477B-B745-0A7D9E8A5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58A0-8E0C-4A42-8AD2-E11D8A0E6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2EA6-B0CD-491C-81C1-38FAEDC69D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F55E-1387-4CC4-A8D8-F157F67A4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0AC9-9F27-45C2-8FDF-566584DF6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DE67-6CFA-4027-A757-836F3110A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772E-5739-46B5-B820-885066703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07D7-8344-45F7-9D0A-6E9C299F9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614B-FE2A-46D2-B072-BE6F147AC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7209-B6E6-45CD-AA95-B5D68575B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6FE3-CB19-4FCD-8642-637C1F1E4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D2FB-5B96-49C0-887F-44E3D42509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CC26-2C73-4445-AD5C-041A6C10E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8075-71FC-4B1B-BFF6-7C3A975B4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0D7C-4E08-479D-A247-F01F32EF0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EAA2-AD40-42D0-BB26-70B5A0A5B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1CA-EA2A-43AC-B556-A64F3A0D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7DA-A30C-48DF-BE95-92CA3EA4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D17-9A6D-4CBD-B841-FFD2629B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FA7-68DE-458E-8EAC-5D5810D1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E5E-60A7-4AF7-AF6C-08488B77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B5E-DAE3-4BCF-9EBE-8C9C1C0C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AA0-FFD4-4790-B3D7-FB5CA0C4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849-DA0B-4154-9039-13AD5C40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572-D9C1-49C3-8DD5-9D08BA34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681-84C1-43A1-BA88-0335E187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2D4-6F32-4714-A978-8AED2A78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4BC-0107-4937-A4D4-900943B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8F85-3D97-42DE-B89A-D96396C83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artment buildings are the norm in urban areas; freestanding houses with yards are extremely rare. Instead, people dry clothes and grow plants on their balconies, in windows, or in patio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rcelona, La Garriga, and Madrid, Spai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28600" y="114300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Housing Exteri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homeext_spain_ligairi_09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homeext_spain_ligairi_10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homeext_spain_ligairi_1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homeext_spain_ligairi_1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homeext_spain_ligairi_1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GPP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omeext_spain_ligairi_0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omeext_spain_ligairi_0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omeext_spain_ligairi_0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omeext_spain_ligairi_04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omeext_spain_ligairi_05_RS.jpg"/>
          <p:cNvPicPr/>
          <p:nvPr/>
        </p:nvPicPr>
        <p:blipFill>
          <a:blip r:embed="rId1"/>
          <a:stretch/>
        </p:blipFill>
        <p:spPr>
          <a:xfrm>
            <a:off x="2857680" y="1143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omeext_spain_ligairi_06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omeext_spain_ligairi_07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omeext_spain_ligairi_08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49:49Z</dcterms:created>
  <dc:creator>pq</dc:creator>
  <dc:description/>
  <dc:language>en-US</dc:language>
  <cp:lastModifiedBy>Marlene Knobbe</cp:lastModifiedBy>
  <dcterms:modified xsi:type="dcterms:W3CDTF">2009-05-24T18:53:25Z</dcterms:modified>
  <cp:revision>14</cp:revision>
  <dc:subject/>
  <dc:title>The Chocolatería San Ginés, established in 1894 and located just off Madrid’s Plaza Mayor, is open all night. It is a favorite spot to enjoy hot chocolate (as thick as melted candy bars) and churros (twisted, fried dough covered in sugar) after a night of disco hopping. (Madrid, Spain)  </dc:title>
</cp:coreProperties>
</file>