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7A0-6108-4B48-8CFF-4EC9A2919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C4BA-1BE7-4F6E-9532-CBF60BEC5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449-FFC7-4016-88C1-FB2291491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3E0-DCA7-4128-8909-6549028F5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78D-446C-4055-947E-B15764E9F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CCC-24C7-4A36-A22D-9CD103014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90F-F596-414C-BB07-B4A334160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ABFA-8FC3-489E-A205-7B339B233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800-99AB-4DA3-9FC8-9195DB768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E27-3677-4626-B18B-237A90FDF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EA6-AB1D-44FF-BD5A-823EB3A71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34D8-6E76-4CED-B46A-5E9BA1F07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33A-E001-4177-8BC1-37268D60B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B6A-CE49-4284-8339-DFEEDF328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2D9D-5DA8-4E0C-B384-8E9D15DB2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8A3-5FEF-4C55-8929-0E9AAE4AF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D59-B43E-4BE7-A884-F6138681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8E6-1EB5-428F-8EA2-3371DF2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BC7-9B2A-4103-B00F-8E25FEA8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015-EF28-42A8-9CBA-97384E74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AF7-FFD9-49AF-B5A0-C3D43061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AD0-0272-4B91-8A14-FE59416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29E-129E-47B7-9F8D-B7C81EB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EDD-782D-41D2-8888-54D0ACB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1B9-DA42-4DEA-8420-9011F4E9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F0B-0877-4E06-8FE7-E692DA8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49A-533C-4335-957D-E69841F6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0A3-3023-4F4D-B5E6-CF5C9C8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9708-DF68-4FE3-BE81-FD37DDA9C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 buildings are the norm in urban areas; freestanding houses with yards are extremely rare. Instead, people dry clothes and grow plants on their balconies, in windows, or in patio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celona, La Garriga, and Madrid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1143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using Ex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ex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ex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ex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omeext_spain_ligairi_1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homeext_spain_ligairi_1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ex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ex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ex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ex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ext_spain_ligairi_05_RS.jpg"/>
          <p:cNvPicPr/>
          <p:nvPr/>
        </p:nvPicPr>
        <p:blipFill>
          <a:blip r:embed="rId1"/>
          <a:stretch/>
        </p:blipFill>
        <p:spPr>
          <a:xfrm>
            <a:off x="2857680" y="114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ex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ex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ex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Marlene Knobbe</cp:lastModifiedBy>
  <dcterms:modified xsi:type="dcterms:W3CDTF">2009-05-24T18:53:25Z</dcterms:modified>
  <cp:revision>14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  </dc:title>
</cp:coreProperties>
</file>