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0D04-7697-422B-BCA6-9E439393EF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F406-A33A-4DB1-AD43-440652A495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367C-1785-4623-9E3A-7EF7A00289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43BF-1D79-4CB6-8D60-99231694F4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7F2E-5BCA-4A1B-B642-898CE65F54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5431-AB3C-46B5-B503-D34AC1A43E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6664-543C-4469-9C31-3BAD408244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58CD-2E8B-4C44-B8F0-6E5A1F03A5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540B-5C1B-4251-BA28-023C08DB46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F266-BD97-47E7-8640-205F51E425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A77B-986B-4C0F-859E-73A7AF3B40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8CDB-283E-49FE-8C1C-04939647EE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901B-75E4-4A09-B9C8-5FBA39021A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5BE6-E30E-4457-860C-0FB18824C9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DE52-905F-499A-B8BE-CE10D2749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173F-A8D4-4002-AA6D-80ACA5E7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9712-CD78-43BB-AF64-D7674EC71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213E-3703-40B0-8491-2940CA51C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B563-8387-4148-8A61-AB459289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064B-36EF-4291-80B3-7E5412D8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4091-2920-429B-A606-BF0CFD88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D4F2-790D-4175-B2C7-DF708749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9043-CD4B-463D-B81D-75E4DB68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D1FA-B2F3-4025-BD22-AB49AFC9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2F16-7D22-4FE0-8C62-55898B98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9599-9049-4FA2-A37F-A4D3198A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3948-F4FF-4B58-9358-16AF11B72A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60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124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partments tend to be quite small—no more than two or three bedrooms—and may contain multiple  levels. Bathrooms usually are equipped with a bidet. Rooms are often compact, and some bedrooms come with a pull-down bed to save floor space during the day. People normally eat in the kitchen or living room, which tends to be the home’s focal point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drid and La Garriga, Spai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990720" y="1143000"/>
            <a:ext cx="739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Verdana"/>
              </a:rPr>
              <a:t>Home Interio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homeint_spain_ligairi_09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homeint_spain_ligairi_10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homeint_spain_ligairi_11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60a7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GPPLog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homeint_spain_ligairi_01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homeint_spain_ligairi_02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homeint_spain_ligairi_03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homeint_spain_ligairi_04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homeint_spain_ligairi_05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homeint_spain_ligairi_06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homeint_spain_ligairi_07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homeint_spain_ligairi_08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22:49:49Z</dcterms:created>
  <dc:creator>pq</dc:creator>
  <dc:description/>
  <dc:language>en-US</dc:language>
  <cp:lastModifiedBy>CCGAFaculty21</cp:lastModifiedBy>
  <dcterms:modified xsi:type="dcterms:W3CDTF">2013-04-10T13:26:32Z</dcterms:modified>
  <cp:revision>25</cp:revision>
  <dc:subject/>
  <dc:title>The Chocolatería San Ginés, established in 1894 and located just off Madrid’s Plaza Mayor, is open all night. It is a favorite spot to enjoy hot chocolate (as thick as melted candy bars) and churros (twisted, fried dough covered in sugar) after a night of disco hopping. (Madrid, Spain)</dc:title>
</cp:coreProperties>
</file>