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EB3B-0EC8-4917-9DE9-1AA32CBD6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CFD5-6E76-4938-958A-492264202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25E4-DBCD-49CF-80F9-E7B5A3457A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8985-D47B-425C-B134-18EF0DC7D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5DCF-F704-43C7-A8B5-3043C58CB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D521-E494-4015-BD05-79CBCFCD1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2709-C7E3-4517-A1DB-B293B17F6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2DA2-334E-4180-99A4-3C364032C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7149-954A-4287-A185-45281114A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FCE5-AFE6-42A0-8543-8723BBD0F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1D6D-2687-43AC-B858-369ACFC3F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0017-5091-4FD6-863B-5052273591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006F-41A1-4E66-8F22-048DB1898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4F63-76AA-4D3E-87B6-E521A395F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572-D559-480A-BBA6-4A458A61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367-974A-4A1D-A593-586FBD5E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04A-52C6-48B9-B2DF-E4B1CD78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AC2-EA1B-4DC3-BC8B-EBA66132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52A-F487-471A-AE3F-1A2A487B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83C-CD5F-477D-A9B5-629868C6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01AE-E94B-407B-A86B-4F7D5709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99B-7418-4D3B-B84B-120BE790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0E95-4A1C-4E44-81B5-8E230BB5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B693-92E1-46DD-8C43-057B85BE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4FE-FB8F-4867-BE3F-63066B9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02F-8E76-42B4-854A-BE93D69A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E79B-ED14-4AC5-BA53-0B7A497E5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artments tend to be quite small—no more than two or three bedrooms—and may contain multiple  levels. Bathrooms usually are equipped with a bidet. Rooms are often compact, and some bedrooms come with a pull-down bed to save floor space during the day. People normally eat in the kitchen or living room, which tends to be the home’s focal poin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drid and La Garriga, Spai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990720" y="1143000"/>
            <a:ext cx="739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Home Interi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homeint_spain_ligairi_09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homeint_spain_ligairi_10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homeint_spain_ligairi_1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GPP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omeint_spain_ligairi_0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omeint_spain_ligairi_0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omeint_spain_ligairi_0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omeint_spain_ligairi_04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omeint_spain_ligairi_05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omeint_spain_ligairi_06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omeint_spain_ligairi_07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omeint_spain_ligairi_08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49:49Z</dcterms:created>
  <dc:creator>pq</dc:creator>
  <dc:description/>
  <dc:language>en-US</dc:language>
  <cp:lastModifiedBy>CCGAFaculty21</cp:lastModifiedBy>
  <dcterms:modified xsi:type="dcterms:W3CDTF">2013-04-10T13:26:32Z</dcterms:modified>
  <cp:revision>25</cp:revision>
  <dc:subject/>
  <dc:title>The Chocolatería San Ginés, established in 1894 and located just off Madrid’s Plaza Mayor, is open all night. It is a favorite spot to enjoy hot chocolate (as thick as melted candy bars) and churros (twisted, fried dough covered in sugar) after a night of disco hopping. (Madrid, Spain)</dc:title>
</cp:coreProperties>
</file>