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A2F-8B68-4372-93B1-E20DE341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05E-0BA2-4260-B57C-138037865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549C-0F41-4FA1-A8DF-0D85F6940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A34-76D7-42DF-8AB7-A28DD3E30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2FE-167B-4DBC-92CF-AC2A90C04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923-1161-45F2-A5B5-53CFCAE9A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0B0-C9FE-4C37-9E5C-6F669EB89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757-A4E1-4AEB-B4AA-C85A6899D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636-F016-46DD-95E9-1DDC8B6EC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DB5E-02E3-4BEF-89CD-1AA48323A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990-DD2F-4E15-9037-FAB4BDCFF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CF6-AB13-4175-9E3D-293AE7492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0AD-DDF2-4D50-B99D-80E6526C5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589-07A8-479A-9A3A-A7F0D50D7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206-CBCD-49B8-8F99-038B964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9ED-4AD7-4EFC-80D3-8CC1F128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37B-BBAC-4A9F-9E6F-2DC21E81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B1C-3F18-4414-B3FA-19949CB5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428-0A8D-4955-BF98-E8F0121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FDA-3311-4BC7-910B-FFE6EA1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3ED-E7C8-46B7-A2F6-2863F1C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7CC-C74D-436A-A745-5AE80BBD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E9D-D37E-45AE-B2FA-457F483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EF2-15D3-4AE2-BE8B-864B398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01F-5D61-4763-B108-CA2BE79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7D0-F26E-4736-8D1F-4FEC721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4D1-38A4-464A-882B-5B1BED12B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s tend to be quite small—no more than two or three bedrooms—and may contain multiple  levels. Bathrooms usually are equipped with a bidet. Rooms are often compact, and some bedrooms come with a pull-down bed to save floor space during the day. People normally eat in the kitchen or living room, which tends to be the home’s focal poin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rid and La Garriga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1430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me In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in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in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in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in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in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in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in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int_spain_ligairi_05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in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in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in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CCGAFaculty21</cp:lastModifiedBy>
  <dcterms:modified xsi:type="dcterms:W3CDTF">2013-04-10T13:26:32Z</dcterms:modified>
  <cp:revision>25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</dc:title>
</cp:coreProperties>
</file>