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FC03-6358-4741-8875-0E660DE1F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CCAE-A3E8-43B4-A6DC-F27051658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5E0B-1BBD-46A9-B765-334CA6B9A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3C46-CE10-4BBD-8224-B042CBD14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6F8B-A4CC-4D2A-80F1-8F7B7F5848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C2A8-7227-4063-BE66-E5932BE27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69B7-B595-4FD7-8BB1-7C0178CF0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2312-11F9-4D2D-9EE3-4F6580925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0DDF-4B30-4430-B82D-807796614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9EB6-1F55-4563-8E99-E4BA0006D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B510-C28B-4300-ABC3-70CE4F77C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9FA3-5713-41AD-8276-97EBC5E86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F8DA-F810-455A-AC2A-86DD64872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BC60-0F8C-4316-8EF2-73D88BDBE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31A-DB85-44D1-8148-A6AEAE83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D0A-E152-4801-A2BB-303BDD36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ABE-9C42-4887-981B-344FC62C1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902-2A03-49F7-AD7F-5D807BEC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059-2D29-4F5F-BCF5-6E60AF5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831-CC7A-453F-84F3-D7974A1E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163-1F05-44A2-A425-8C7E4AF5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AA2-DBCB-4E11-A74A-CCA62FDE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3F8-BDE8-47F7-BB35-FDC7987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F86-B466-4FA7-9AEF-B007C8FC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3ADD-987F-4E61-9FC1-9BDA1B8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12A-73BE-4237-8703-A230D975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E6E1-33FA-4DF7-841D-8A2F5C81C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artments tend to be quite small—no more than two or three bedrooms—and may contain multiple  levels. Bathrooms usually are equipped with a bidet. Rooms are often compact, and some bedrooms come with a pull-down bed to save floor space during the day. People normally eat in the kitchen or living room, which tends to be the home’s focal poin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drid and La Garriga, Spa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990720" y="114300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Home Interi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omeint_spain_ligairi_09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omeint_spain_ligairi_10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homeint_spain_ligairi_1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GPP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omeint_spain_ligairi_0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omeint_spain_ligairi_0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omeint_spain_ligairi_0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omeint_spain_ligairi_04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omeint_spain_ligairi_05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omeint_spain_ligairi_06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omeint_spain_ligairi_07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omeint_spain_ligairi_08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49:49Z</dcterms:created>
  <dc:creator>pq</dc:creator>
  <dc:description/>
  <dc:language>en-US</dc:language>
  <cp:lastModifiedBy>CCGAFaculty21</cp:lastModifiedBy>
  <dcterms:modified xsi:type="dcterms:W3CDTF">2013-04-10T13:26:32Z</dcterms:modified>
  <cp:revision>25</cp:revision>
  <dc:subject/>
  <dc:title>The Chocolatería San Ginés, established in 1894 and located just off Madrid’s Plaza Mayor, is open all night. It is a favorite spot to enjoy hot chocolate (as thick as melted candy bars) and churros (twisted, fried dough covered in sugar) after a night of disco hopping. (Madrid, Spain)</dc:title>
</cp:coreProperties>
</file>