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wmf" ContentType="image/x-wmf"/>
  <Override PartName="/ppt/media/image34.jpeg" ContentType="image/jpeg"/>
  <Override PartName="/ppt/media/image56.wmf" ContentType="image/x-wmf"/>
  <Override PartName="/ppt/media/image55.jpeg" ContentType="image/jpeg"/>
  <Override PartName="/ppt/media/image54.jpeg" ContentType="image/jpeg"/>
  <Override PartName="/ppt/media/image53.jpeg" ContentType="image/jpeg"/>
  <Override PartName="/ppt/media/image50.wmf" ContentType="image/x-wmf"/>
  <Override PartName="/ppt/media/image43.jpeg" ContentType="image/jpeg"/>
  <Override PartName="/ppt/media/image44.wmf" ContentType="image/x-wmf"/>
  <Override PartName="/ppt/media/image42.jpeg" ContentType="image/jpeg"/>
  <Override PartName="/ppt/media/image41.png" ContentType="image/png"/>
  <Override PartName="/ppt/media/image40.png" ContentType="image/png"/>
  <Override PartName="/ppt/media/image38.wmf" ContentType="image/x-wmf"/>
  <Override PartName="/ppt/media/image37.wmf" ContentType="image/x-wmf"/>
  <Override PartName="/ppt/media/image88.jpeg" ContentType="image/jpeg"/>
  <Override PartName="/ppt/media/image30.wmf" ContentType="image/x-wmf"/>
  <Override PartName="/ppt/media/image39.jpeg" ContentType="image/jpeg"/>
  <Override PartName="/ppt/media/image8.jpeg" ContentType="image/jpeg"/>
  <Override PartName="/ppt/media/image91.png" ContentType="image/png"/>
  <Override PartName="/ppt/media/image49.wmf" ContentType="image/x-wmf"/>
  <Override PartName="/ppt/media/image12.wmf" ContentType="image/x-wmf"/>
  <Override PartName="/ppt/media/image48.wmf" ContentType="image/x-wmf"/>
  <Override PartName="/ppt/media/image11.wmf" ContentType="image/x-wmf"/>
  <Override PartName="/ppt/media/image76.jpeg" ContentType="image/jpeg"/>
  <Override PartName="/ppt/media/image7.png" ContentType="image/png"/>
  <Override PartName="/ppt/media/image62.jpeg" ContentType="image/jpeg"/>
  <Override PartName="/ppt/media/image79.jpeg" ContentType="image/jpeg"/>
  <Override PartName="/ppt/media/image15.wmf" ContentType="image/x-wmf"/>
  <Override PartName="/ppt/media/image3.wmf" ContentType="image/x-wmf"/>
  <Override PartName="/ppt/media/image46.jpeg" ContentType="image/jpeg"/>
  <Override PartName="/ppt/media/image45.jpeg" ContentType="image/jpeg"/>
  <Override PartName="/ppt/media/image72.jpeg" ContentType="image/jpeg"/>
  <Override PartName="/ppt/media/image20.wmf" ContentType="image/x-wmf"/>
  <Override PartName="/ppt/media/image57.wmf" ContentType="image/x-wmf"/>
  <Override PartName="/ppt/media/image24.wmf" ContentType="image/x-wmf"/>
  <Override PartName="/ppt/media/image85.jpeg" ContentType="image/jpeg"/>
  <Override PartName="/ppt/media/image59.wmf" ContentType="image/x-wmf"/>
  <Override PartName="/ppt/media/image89.wmf" ContentType="image/x-wmf"/>
  <Override PartName="/ppt/media/image75.jpeg" ContentType="image/jpeg"/>
  <Override PartName="/ppt/media/image19.wmf" ContentType="image/x-wmf"/>
  <Override PartName="/ppt/media/image26.wmf" ContentType="image/x-wmf"/>
  <Override PartName="/ppt/media/image67.jpeg" ContentType="image/jpeg"/>
  <Override PartName="/ppt/media/image87.jpeg" ContentType="image/jpeg"/>
  <Override PartName="/ppt/media/image28.wmf" ContentType="image/x-wmf"/>
  <Override PartName="/ppt/media/image36.jpeg" ContentType="image/jpeg"/>
  <Override PartName="/ppt/media/image22.wmf" ContentType="image/x-wmf"/>
  <Override PartName="/ppt/media/image80.jpeg" ContentType="image/jpeg"/>
  <Override PartName="/ppt/media/image74.jpeg" ContentType="image/jpeg"/>
  <Override PartName="/ppt/media/image18.wmf" ContentType="image/x-wmf"/>
  <Override PartName="/ppt/media/image6.wmf" ContentType="image/x-wmf"/>
  <Override PartName="/ppt/media/image63.wmf" ContentType="image/x-wmf"/>
  <Override PartName="/ppt/media/image84.jpeg" ContentType="image/jpeg"/>
  <Override PartName="/ppt/media/image69.wmf" ContentType="image/x-wmf"/>
  <Override PartName="/ppt/media/image14.wmf" ContentType="image/x-wmf"/>
  <Override PartName="/ppt/media/image2.wmf" ContentType="image/x-wmf"/>
  <Override PartName="/ppt/media/image81.jpeg" ContentType="image/jpeg"/>
  <Override PartName="/ppt/media/image32.wmf" ContentType="image/x-wmf"/>
  <Override PartName="/ppt/media/image73.jpeg" ContentType="image/jpeg"/>
  <Override PartName="/ppt/media/image21.gif" ContentType="image/gif"/>
  <Override PartName="/ppt/media/image68.jpeg" ContentType="image/jpeg"/>
  <Override PartName="/ppt/media/image29.wmf" ContentType="image/x-wmf"/>
  <Override PartName="/ppt/media/image71.jpeg" ContentType="image/jpeg"/>
  <Override PartName="/ppt/media/image60.jpeg" ContentType="image/jpeg"/>
  <Override PartName="/ppt/media/image77.jpeg" ContentType="image/jpeg"/>
  <Override PartName="/ppt/media/image70.png" ContentType="image/png"/>
  <Override PartName="/ppt/media/image64.jpeg" ContentType="image/jpeg"/>
  <Override PartName="/ppt/media/image61.jpeg" ContentType="image/jpeg"/>
  <Override PartName="/ppt/media/image78.jpeg" ContentType="image/jpeg"/>
  <Override PartName="/ppt/media/image31.wmf" ContentType="image/x-wmf"/>
  <Override PartName="/ppt/media/image65.jpeg" ContentType="image/jpeg"/>
  <Override PartName="/ppt/media/image9.jpeg" ContentType="image/jpeg"/>
  <Override PartName="/ppt/media/image51.wmf" ContentType="image/x-wmf"/>
  <Override PartName="/ppt/media/image23.jpeg" ContentType="image/jpeg"/>
  <Override PartName="/ppt/media/image82.jpeg" ContentType="image/jpeg"/>
  <Override PartName="/ppt/media/image52.wmf" ContentType="image/x-wmf"/>
  <Override PartName="/ppt/media/image83.jpeg" ContentType="image/jpeg"/>
  <Override PartName="/ppt/media/image33.wmf" ContentType="image/x-wmf"/>
  <Override PartName="/ppt/media/image16.wmf" ContentType="image/x-wmf"/>
  <Override PartName="/ppt/media/image66.jpeg" ContentType="image/jpeg"/>
  <Override PartName="/ppt/media/image4.wmf" ContentType="image/x-wmf"/>
  <Override PartName="/ppt/media/image1.wmf" ContentType="image/x-wmf"/>
  <Override PartName="/ppt/media/image13.wmf" ContentType="image/x-wmf"/>
  <Override PartName="/ppt/media/image10.jpeg" ContentType="image/jpeg"/>
  <Override PartName="/ppt/media/image86.jpeg" ContentType="image/jpeg"/>
  <Override PartName="/ppt/media/image27.jpeg" ContentType="image/jpeg"/>
  <Override PartName="/ppt/media/image17.wmf" ContentType="image/x-wmf"/>
  <Override PartName="/ppt/media/image5.wmf" ContentType="image/x-wmf"/>
  <Override PartName="/ppt/media/image35.wmf" ContentType="image/x-wmf"/>
  <Override PartName="/ppt/media/image47.jpeg" ContentType="image/jpeg"/>
  <Override PartName="/ppt/media/image25.wmf" ContentType="image/x-wmf"/>
  <Override PartName="/ppt/media/image9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9C055-737B-483C-B13B-5CEF6ED3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8DEBD-AD2A-4027-AB79-72A8C97A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2D4A4-5227-437C-BDFD-B3CA8E99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71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9864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43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71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9864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3DAB0-2D28-4676-B3DA-DDCD807F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FA03F-764F-4BBC-9573-1077F775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1A4FE-BEF7-421B-A5FC-22B0006B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C5478-BE4A-49DC-965D-D3B85DC5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05C8C-BDC9-491C-8258-F0E2AFE8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5A39E-4447-4BEF-AF8E-63E9339A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77914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01810-4084-458E-A529-6E2C6C8B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FAE1E-3B4B-4794-AA9E-AD0B9F2C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4ADDA-2A44-43F5-89E4-81B6E0CE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F1487-A05A-4EE7-95BE-1DA2D8AA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39019-66D5-45F3-B362-92F05687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9B847-3E65-4D6D-B6A5-906D33F0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1DFB2-D142-4AF4-9F87-BA30C710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71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9864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43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71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9864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454EB-D246-41C4-8039-07D23DF6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4A602-7EFA-4F18-AD6B-20AEAF55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7774-0489-45BB-B1B0-9B08DBFC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E88CF-9A04-492A-84D6-5FAFFA58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77914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5BF33-0375-4214-BD94-E19C1B13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F23EA-34C8-4239-9F65-90A0CFBC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3CF50-4701-43EC-93B3-46A2CF1B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AF33E-8D60-4DBD-8DF8-53BD49E3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28160" cy="6858000"/>
            <a:chOff x="0" y="0"/>
            <a:chExt cx="912816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04800" y="1409760"/>
              <a:ext cx="8523360" cy="76320"/>
              <a:chOff x="604800" y="1409760"/>
              <a:chExt cx="8523360" cy="76320"/>
            </a:xfrm>
          </p:grpSpPr>
          <p:sp>
            <p:nvSpPr>
              <p:cNvPr id="3" name=""/>
              <p:cNvSpPr/>
              <p:nvPr/>
            </p:nvSpPr>
            <p:spPr>
              <a:xfrm>
                <a:off x="604800" y="148608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04800" y="140976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A60D-6536-4C25-A4D7-16C8FAAFB7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D19A-0071-4CD5-8D79-2FAE8FE6FFB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9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3FD4-3767-499E-81C6-3362F57314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4E17-EDF5-4082-B200-EFEF3E536D8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8800" y="949320"/>
            <a:ext cx="6324480" cy="5908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228600"/>
            <a:ext cx="8153280" cy="2059920"/>
          </a:xfrm>
          <a:prstGeom prst="rect">
            <a:avLst/>
          </a:prstGeom>
          <a:solidFill>
            <a:srgbClr val="99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993300"/>
                </a:solidFill>
                <a:latin typeface="Times New Roman"/>
              </a:rPr>
              <a:t>la escuela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96BCAD-A28D-4235-BECA-09505FE124A4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182520" y="-2057400"/>
            <a:ext cx="9326520" cy="11430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80880" y="0"/>
            <a:ext cx="8229600" cy="1708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Los elásticos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13E56A-FB95-4508-85DA-323615842B0E}" type="datetime1">
              <a:rPr lang="en-US"/>
              <a:t>07/30/26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2257560" y="0"/>
          <a:ext cx="504648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7560" y="0"/>
                    <a:ext cx="50464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45A9B8-C576-4FD4-93AA-5A532774B8E8}" type="datetime1">
              <a:rPr lang="en-US"/>
              <a:t>07/30/26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685800" y="457200"/>
          <a:ext cx="8229600" cy="43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"/>
                    <a:ext cx="822960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A87251-BD26-43DA-9A25-9A78F0ECFF6B}" type="datetime1">
              <a:rPr lang="en-US"/>
              <a:t>07/30/26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609480" y="182520"/>
          <a:ext cx="8001000" cy="617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520"/>
                    <a:ext cx="8001000" cy="61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34C6D3-92D2-49EF-A376-9FEA1D23F54D}" type="datetime1">
              <a:rPr lang="en-US"/>
              <a:t>07/30/26</a:t>
            </a:fld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533520" y="0"/>
          <a:ext cx="31604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31604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B7D6B0-2D75-4DA7-9F8B-B9B047649918}" type="datetime1">
              <a:rPr lang="en-US"/>
              <a:t>07/30/26</a:t>
            </a:fld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685800" y="990720"/>
          <a:ext cx="7848720" cy="52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7848720" cy="52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395024-714E-4299-8295-0AE0AD9AEC55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95280" y="2090880"/>
            <a:ext cx="6553440" cy="4767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228600"/>
            <a:ext cx="883908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goma de borra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FB32A5-D3D4-4C1C-80B0-097C71782782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3352680"/>
            <a:ext cx="8381880" cy="2895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143000" y="228600"/>
            <a:ext cx="7010280" cy="225756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0000"/>
                </a:solidFill>
                <a:latin typeface="Times New Roman"/>
              </a:rPr>
              <a:t>la regla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4C3D93-5E81-40BD-8F57-7EC3BFF0D881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71600" y="1849320"/>
            <a:ext cx="6248520" cy="5008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9480" y="304920"/>
            <a:ext cx="716292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el sacapunta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228DBC-6849-4003-A532-775B7F92C3D7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11280" y="1981080"/>
            <a:ext cx="4821480" cy="4876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14400" y="0"/>
            <a:ext cx="7391520" cy="1877040"/>
          </a:xfrm>
          <a:prstGeom prst="rect">
            <a:avLst/>
          </a:prstGeom>
          <a:solidFill>
            <a:srgbClr val="99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Times New Roman"/>
              </a:rPr>
              <a:t>las tijeras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503A8D-B4F8-42CF-9EC6-C36F0A7C7666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38224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304920"/>
            <a:ext cx="8839080" cy="1708920"/>
          </a:xfrm>
          <a:prstGeom prst="rect">
            <a:avLst/>
          </a:prstGeom>
          <a:solidFill>
            <a:srgbClr val="99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66"/>
                </a:solidFill>
                <a:latin typeface="Times New Roman"/>
              </a:rPr>
              <a:t>la grapadora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1C0B67-484E-48BB-A186-BDE332C28CBA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5025960" cy="5867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4920" y="304920"/>
            <a:ext cx="8458200" cy="1557000"/>
          </a:xfrm>
          <a:prstGeom prst="rect">
            <a:avLst/>
          </a:prstGeom>
          <a:solidFill>
            <a:srgbClr val="99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Times New Roman"/>
              </a:rPr>
              <a:t>los cuaderno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464986-0133-45CC-BD73-08D2242B7E5B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6782040" cy="5651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304920"/>
            <a:ext cx="8610480" cy="14346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la cinta adhesiva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AC1D33-AB4B-484F-8199-D33DAE9EDED9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324840" cy="5245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0880" y="304920"/>
            <a:ext cx="8077320" cy="1708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la campana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1C0FBF-4982-4238-8CD5-E446A208D412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086600" cy="5130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" y="228600"/>
            <a:ext cx="7467480" cy="170892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el pupitre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526BD0-506A-4CA0-8E71-5EEB47F4B625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38280" y="1492200"/>
            <a:ext cx="4908600" cy="5365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0880" y="304920"/>
            <a:ext cx="8534520" cy="11912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Las cosas para la clas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0FAC0F-4C56-42A2-852D-EFEB260334C9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610480" cy="5472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28600" y="457200"/>
            <a:ext cx="8763120" cy="1312920"/>
          </a:xfrm>
          <a:prstGeom prst="rect">
            <a:avLst/>
          </a:prstGeom>
          <a:solidFill>
            <a:srgbClr val="ff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el estante de libro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E418C6-B08C-482D-AA0A-DEA80B5DAE4A}" type="datetime1">
              <a:rPr lang="en-US"/>
              <a:t>07/30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5334120"/>
            <a:ext cx="6553080" cy="119124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la computadora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5943600" cy="466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BBCCB7-736F-4D2D-B740-496E31EEAB58}" type="datetime1">
              <a:rPr lang="en-US"/>
              <a:t>07/30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00200" y="4251240"/>
            <a:ext cx="7010280" cy="25318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el monitor/la pantall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362320" y="-380880"/>
            <a:ext cx="4010040" cy="47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B752D3-88C7-4C90-B050-601D3B3E298B}" type="datetime1">
              <a:rPr lang="en-US"/>
              <a:t>07/30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5073480"/>
            <a:ext cx="8382240" cy="1557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el teclado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826080" cy="47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BA8C61-B27A-456A-A6B5-32177644A4AB}" type="datetime1">
              <a:rPr lang="en-US"/>
              <a:t>07/30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5073480"/>
            <a:ext cx="8382240" cy="1557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la impresor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705720" cy="41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703E1E-5114-45B1-92CD-C495977AD781}" type="datetime1">
              <a:rPr lang="en-US"/>
              <a:t>07/30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5073480"/>
            <a:ext cx="8382240" cy="1557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el disquet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876560" cy="457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CD6A94-8079-457A-BB53-1336456F757A}" type="datetime1">
              <a:rPr lang="en-US"/>
              <a:t>07/30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181480" cy="4759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362320" y="5181480"/>
            <a:ext cx="3962160" cy="119124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l ratón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105520" y="1599840"/>
            <a:ext cx="914400" cy="3886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76F6DD-46A2-417F-8A8B-DEF3555166BD}" type="datetime1">
              <a:rPr lang="en-US"/>
              <a:t>07/30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181480" cy="4759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5562720"/>
            <a:ext cx="8839080" cy="9169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a afombrilla para el rató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4572000" y="3429000"/>
            <a:ext cx="457200" cy="2286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7F19B3-AC49-459C-A5E5-9A99FF589D7A}" type="datetime1">
              <a:rPr lang="en-US"/>
              <a:t>07/30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5073480"/>
            <a:ext cx="8382240" cy="1557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la tecl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6858000" cy="453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C2892A-5BA9-43C8-87E4-AF842A6AC2DC}" type="datetime1">
              <a:rPr lang="en-US"/>
              <a:t>07/30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245120" y="1160640"/>
            <a:ext cx="4898880" cy="5697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28600" y="304920"/>
            <a:ext cx="5181480" cy="131292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a mochill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D5560E-7C79-4E4F-BEAD-0615E8B58CD9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5715000" cy="3914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3880" y="152280"/>
            <a:ext cx="7010640" cy="1877040"/>
          </a:xfrm>
          <a:prstGeom prst="rect">
            <a:avLst/>
          </a:prstGeom>
          <a:solidFill>
            <a:srgbClr val="ffff00"/>
          </a:solidFill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33cc"/>
                </a:solidFill>
                <a:latin typeface="Times New Roman"/>
              </a:rPr>
              <a:t>la pizarra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683999-C3C2-4B29-B78E-1DFC67834230}" type="datetime1">
              <a:rPr lang="en-US"/>
              <a:t>07/30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763120" cy="5494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62120" y="380880"/>
            <a:ext cx="7238880" cy="131292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a pantall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57200"/>
            <a:ext cx="2209680" cy="1981080"/>
          </a:xfrm>
          <a:custGeom>
            <a:avLst/>
            <a:gdLst>
              <a:gd name="textAreaLeft" fmla="*/ 352800 w 2209680"/>
              <a:gd name="textAreaRight" fmla="*/ 1588320 w 2209680"/>
              <a:gd name="textAreaTop" fmla="*/ 265320 h 1981080"/>
              <a:gd name="textAreaBottom" fmla="*/ 17157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902" hR="21600" stAng="10800000" swAng="5400000"/>
                <a:lnTo>
                  <a:pt x="12076" y="0"/>
                </a:lnTo>
                <a:arcTo wR="6902" hR="21600" stAng="-5400000" swAng="2526412"/>
                <a:lnTo>
                  <a:pt x="21205" y="14400"/>
                </a:lnTo>
                <a:lnTo>
                  <a:pt x="16391" y="21600"/>
                </a:lnTo>
                <a:lnTo>
                  <a:pt x="10787" y="14400"/>
                </a:lnTo>
                <a:lnTo>
                  <a:pt x="13409" y="14400"/>
                </a:lnTo>
                <a:arcTo wR="6902" hR="21600" stAng="-2873588" swAng="-2084748"/>
                <a:lnTo>
                  <a:pt x="9489" y="1575"/>
                </a:lnTo>
                <a:arcTo wR="6902" hR="21600" stAng="-5841664" swAng="-4958336"/>
                <a:close/>
              </a:path>
              <a:path fill="darkenLess" w="21600" h="21600">
                <a:moveTo>
                  <a:pt x="0" y="21600"/>
                </a:moveTo>
                <a:arcTo wR="6902" hR="21600" stAng="10800000" swAng="5400000"/>
                <a:lnTo>
                  <a:pt x="6902" y="0"/>
                </a:lnTo>
                <a:arcTo wR="6902" hR="21600" stAng="-5400000" swAng="441664"/>
                <a:lnTo>
                  <a:pt x="9489" y="1575"/>
                </a:lnTo>
                <a:arcTo wR="6902" hR="21600" stAng="-5841664" swAng="-4958336"/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B4F54B-7058-4068-A126-CECC8D82B708}" type="datetime1">
              <a:rPr lang="en-US"/>
              <a:t>07/30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09880" y="1346040"/>
            <a:ext cx="4910400" cy="5511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228600"/>
            <a:ext cx="3581280" cy="3323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66"/>
                </a:solidFill>
                <a:latin typeface="Times New Roman"/>
              </a:rPr>
              <a:t>el globo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24090D-BB53-48B7-AD5E-5706EF055590}" type="datetime1">
              <a:rPr lang="en-US"/>
              <a:t>07/30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060720" cy="6095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352680" y="609480"/>
            <a:ext cx="5486400" cy="2753640"/>
          </a:xfrm>
          <a:prstGeom prst="rect">
            <a:avLst/>
          </a:prstGeom>
          <a:solidFill>
            <a:srgbClr val="ffcc00"/>
          </a:solidFill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El pegamento</a:t>
            </a:r>
            <a:r>
              <a:rPr b="1" lang="en-US" sz="10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D4DEF83C-9871-4969-AC85-8C9DEE0BA707}" type="datetime1">
              <a:rPr lang="en-US"/>
              <a:t>07/30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705360" cy="5730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57200" y="380880"/>
            <a:ext cx="8229600" cy="18770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99"/>
                </a:solidFill>
                <a:latin typeface="Times New Roman"/>
              </a:rPr>
              <a:t>las sillas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859310-29FF-4A3F-9DB8-3C596E645C22}" type="datetime1">
              <a:rPr lang="en-US"/>
              <a:t>07/30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105520" cy="5105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0880" y="0"/>
            <a:ext cx="8305920" cy="2257560"/>
          </a:xfrm>
          <a:prstGeom prst="rect">
            <a:avLst/>
          </a:prstGeom>
          <a:solidFill>
            <a:srgbClr val="99ccff"/>
          </a:solidFill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0000"/>
                </a:solidFill>
                <a:latin typeface="Times New Roman"/>
              </a:rPr>
              <a:t>el reloj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1E4DBB-0238-4272-8412-3F1BB9445DFA}" type="datetime1">
              <a:rPr lang="en-US"/>
              <a:t>07/30/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838080" y="-285840"/>
            <a:ext cx="10362960" cy="7772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33520" y="4572000"/>
            <a:ext cx="8305560" cy="1557000"/>
          </a:xfrm>
          <a:prstGeom prst="rect">
            <a:avLst/>
          </a:prstGeom>
          <a:solidFill>
            <a:srgbClr val="99ccff"/>
          </a:solidFill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La calculador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D2D810-4FBC-4F4F-AB4F-75F82867AC63}" type="datetime1">
              <a:rPr lang="en-US"/>
              <a:t>07/30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533520" y="0"/>
          <a:ext cx="31604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31604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4038480" y="533520"/>
            <a:ext cx="4267440" cy="3020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Times New Roman"/>
              </a:rPr>
              <a:t>el compá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FE328F-0DA7-4EAF-8257-E4E634EB5AC5}" type="datetime1">
              <a:rPr lang="en-US"/>
              <a:t>07/30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90720" y="380880"/>
            <a:ext cx="8153280" cy="2059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el mapa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03CB22-82DA-4FD9-8F76-0EE9C9B362FF}" type="datetime1">
              <a:rPr lang="en-US"/>
              <a:t>07/30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5076720" cy="6248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0"/>
            <a:ext cx="8915400" cy="1708920"/>
          </a:xfrm>
          <a:prstGeom prst="rect">
            <a:avLst/>
          </a:prstGeom>
          <a:solidFill>
            <a:srgbClr val="ffcc66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0000"/>
                </a:solidFill>
                <a:latin typeface="Times New Roman"/>
              </a:rPr>
              <a:t>la ventana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F33C6F-D27A-4488-BA5A-88EEA7EEAB74}" type="datetime1">
              <a:rPr lang="en-US"/>
              <a:t>07/30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859280" cy="7315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80880" y="304920"/>
            <a:ext cx="8153640" cy="277524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Escriban a la pizarra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E4729A-FCAB-4497-BDEB-9EAB5F4DFE14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9144000" cy="3575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71600" y="228600"/>
            <a:ext cx="6553080" cy="2471040"/>
          </a:xfrm>
          <a:prstGeom prst="rect">
            <a:avLst/>
          </a:prstGeom>
          <a:solidFill>
            <a:srgbClr val="ffcc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ff3300"/>
                </a:solidFill>
                <a:latin typeface="Times New Roman"/>
              </a:rPr>
              <a:t>el libro</a:t>
            </a:r>
            <a:endParaRPr b="0" lang="en-US" sz="1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1E182B-2B9B-4A36-A453-E67B97E78E7A}" type="datetime1">
              <a:rPr lang="en-US"/>
              <a:t>07/30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486400" y="762120"/>
            <a:ext cx="3657600" cy="42382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66"/>
                </a:solidFill>
                <a:latin typeface="Times New Roman"/>
              </a:rPr>
              <a:t>Levanten</a:t>
            </a:r>
            <a:r>
              <a:rPr b="1" lang="en-US" sz="9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003366"/>
                </a:solidFill>
                <a:latin typeface="Times New Roman"/>
              </a:rPr>
              <a:t>las mano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5181480" cy="472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20C598-49AE-4424-A901-750EFD80E29F}" type="datetime1">
              <a:rPr lang="en-US"/>
              <a:t>07/30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14400" y="4525920"/>
            <a:ext cx="7162920" cy="2059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Times New Roman"/>
              </a:rPr>
              <a:t>Escuchen.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46E9CE-2834-4B60-9C7B-ADD08E1B5B60}" type="datetime1">
              <a:rPr lang="en-US"/>
              <a:t>07/30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315200" cy="48736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ff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scriban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8EA992-9074-435B-A122-17F55DA94351}" type="datetime1">
              <a:rPr lang="en-US"/>
              <a:t>07/30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2092320"/>
            <a:ext cx="9144000" cy="4765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362320" y="228600"/>
            <a:ext cx="4952880" cy="2257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3366"/>
                </a:solidFill>
                <a:latin typeface="Times New Roman"/>
              </a:rPr>
              <a:t>Lean.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AA8F63-45BC-4F0A-AB53-0FD8E4AC8E28}" type="datetime1">
              <a:rPr lang="en-US"/>
              <a:t>07/30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781680" cy="5425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09480" y="228600"/>
            <a:ext cx="8001000" cy="17089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los autobuses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FDA757D5-DB66-4A93-B323-63D15439F9B6}" type="datetime1">
              <a:rPr lang="en-US"/>
              <a:t>07/30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924680" cy="6159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4920" y="228600"/>
            <a:ext cx="8534160" cy="13129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uedo ir al cajón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471D9800-11A1-424F-9DDD-A4A28C146769}" type="datetime1">
              <a:rPr lang="en-US"/>
              <a:t>07/30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0880" y="5029200"/>
            <a:ext cx="8458200" cy="1557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la clase de art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F1162A-4EFA-49C9-917F-1BE5A3A48C07}" type="datetime1">
              <a:rPr lang="en-US"/>
              <a:t>07/30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28600" y="5334120"/>
            <a:ext cx="8915400" cy="109944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la clase de francé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BDF47B-4F98-4E0E-B05B-1B5364FB0D08}" type="datetime1">
              <a:rPr lang="en-US"/>
              <a:t>07/30/26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-22860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5257800"/>
            <a:ext cx="8915400" cy="1312920"/>
          </a:xfrm>
          <a:prstGeom prst="rect">
            <a:avLst/>
          </a:prstGeom>
          <a:solidFill>
            <a:srgbClr val="ffcc00"/>
          </a:soli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a clase de químic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C8F2FF-46C6-46B8-BDB4-72D8DB5B44D1}" type="datetime1">
              <a:rPr lang="en-US"/>
              <a:t>07/30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8600" y="1333440"/>
            <a:ext cx="8001000" cy="57801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85800" y="380880"/>
            <a:ext cx="8001000" cy="7642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bajen con la computador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9DBC35AA-2B01-4326-9554-7BCD51EA004C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2222640"/>
            <a:ext cx="6019920" cy="4635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4920" y="380880"/>
            <a:ext cx="8610480" cy="13129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99"/>
                </a:solidFill>
                <a:latin typeface="Times New Roman"/>
              </a:rPr>
              <a:t>Los creyone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1FEDB1-36A3-4255-9102-BCB11D8363E7}" type="datetime1">
              <a:rPr lang="en-US"/>
              <a:t>07/30/26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733920" y="1701720"/>
            <a:ext cx="2127240" cy="5156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134040" y="2057400"/>
            <a:ext cx="2559240" cy="4191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-304920" y="2057400"/>
            <a:ext cx="4071960" cy="4267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62120" y="228600"/>
            <a:ext cx="7772400" cy="109944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¡Rápido! ¡Apúrense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FD9DE91E-3B2C-4A1D-A717-120FDF2A1B91}" type="datetime1">
              <a:rPr lang="en-US"/>
              <a:t>07/30/26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359680" cy="53136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04920" y="380880"/>
            <a:ext cx="8534160" cy="825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aquen apuntes en el cuaderno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78E60788-E7C3-49FC-A9A7-ACFFD856549F}" type="datetime1">
              <a:rPr lang="en-US"/>
              <a:t>07/30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8600" y="5638680"/>
            <a:ext cx="8686800" cy="916920"/>
          </a:xfrm>
          <a:prstGeom prst="rect">
            <a:avLst/>
          </a:prstGeom>
          <a:solidFill>
            <a:srgbClr val="6600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la clase de educación física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662D52-8A85-498B-AFF0-B0DFB252C2D2}" type="datetime1">
              <a:rPr lang="en-US"/>
              <a:t>07/30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-380880" y="-28584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0" y="5105520"/>
            <a:ext cx="8763120" cy="1708920"/>
          </a:xfrm>
          <a:prstGeom prst="rect">
            <a:avLst/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la biblioteca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9ABF99-9F01-4AE2-9E6D-4633ECE387C9}" type="datetime1">
              <a:rPr lang="en-US"/>
              <a:t>07/30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80880" y="4876920"/>
            <a:ext cx="8534520" cy="1312920"/>
          </a:xfrm>
          <a:prstGeom prst="rect">
            <a:avLst/>
          </a:prstGeom>
          <a:solidFill>
            <a:srgbClr val="6600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a clase de músic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E9F4FE-51CE-4173-A35F-63A6039371CA}" type="datetime1">
              <a:rPr lang="en-US"/>
              <a:t>07/30/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5670720" cy="69278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04920" y="380880"/>
            <a:ext cx="8610480" cy="13129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99"/>
                </a:solidFill>
                <a:latin typeface="Times New Roman"/>
              </a:rPr>
              <a:t>los lapices de cer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44DB372C-1501-431D-BAE8-B29467146769}" type="datetime1">
              <a:rPr lang="en-US"/>
              <a:t>07/30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8077320" cy="60274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57200" y="228600"/>
            <a:ext cx="8305920" cy="1708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66"/>
                </a:solidFill>
                <a:latin typeface="Times New Roman"/>
              </a:rPr>
              <a:t>la profesora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5D3F866E-7AB1-48D5-BCCD-9CFF706C97EB}" type="datetime1">
              <a:rPr lang="en-US"/>
              <a:t>07/30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6477120" cy="62434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33520" y="380880"/>
            <a:ext cx="861048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99"/>
                </a:solidFill>
                <a:latin typeface="Times New Roman"/>
              </a:rPr>
              <a:t>el sujetapapel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1905120"/>
            <a:ext cx="2133720" cy="3657600"/>
          </a:xfrm>
          <a:custGeom>
            <a:avLst/>
            <a:gdLst>
              <a:gd name="textAreaLeft" fmla="*/ 612360 w 2133720"/>
              <a:gd name="textAreaRight" fmla="*/ 1827720 w 2133720"/>
              <a:gd name="textAreaTop" fmla="*/ 2106360 h 3657600"/>
              <a:gd name="textAreaBottom" fmla="*/ 313272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E9981278-0C15-43E5-B888-7766328E5DB2}" type="datetime1">
              <a:rPr lang="en-US"/>
              <a:t>07/30/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920" y="304920"/>
            <a:ext cx="4267080" cy="2059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99"/>
                </a:solidFill>
                <a:latin typeface="Times New Roman"/>
              </a:rPr>
              <a:t>la luz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840120" y="-304920"/>
            <a:ext cx="5303880" cy="716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CA59EB-509B-4FCF-8066-F7E4D1341EA3}" type="datetime1">
              <a:rPr lang="en-US"/>
              <a:t>07/30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33520" y="4876920"/>
            <a:ext cx="8610480" cy="1708920"/>
          </a:xfrm>
          <a:prstGeom prst="rect">
            <a:avLst/>
          </a:prstGeom>
          <a:solidFill>
            <a:srgbClr val="cc99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66"/>
                </a:solidFill>
                <a:latin typeface="Times New Roman"/>
              </a:rPr>
              <a:t>la cafetéria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87B63E-F6EE-4A38-9F9F-8D758935042A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2500200"/>
            <a:ext cx="7872480" cy="43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28600" y="304920"/>
            <a:ext cx="8153280" cy="1708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Times New Roman"/>
              </a:rPr>
              <a:t>el marcador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1FD184-7788-44EE-BC22-DDB99E854033}" type="datetime1">
              <a:rPr lang="en-US"/>
              <a:t>07/30/2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62120" y="4602240"/>
            <a:ext cx="7467480" cy="2257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3366"/>
                </a:solidFill>
                <a:latin typeface="Times New Roman"/>
              </a:rPr>
              <a:t>el pasillo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0788CE-CAC9-4162-82A1-64A6FBD482AB}" type="datetime1">
              <a:rPr lang="en-US"/>
              <a:t>07/30/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0"/>
            <a:ext cx="5638680" cy="1434600"/>
          </a:xfrm>
          <a:prstGeom prst="rect">
            <a:avLst/>
          </a:prstGeom>
          <a:solidFill>
            <a:srgbClr val="ff33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la clínica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3809880"/>
            <a:ext cx="5562720" cy="1191240"/>
          </a:xfrm>
          <a:prstGeom prst="rect">
            <a:avLst/>
          </a:prstGeom>
          <a:solidFill>
            <a:srgbClr val="ff33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la enfermera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688530-E4D0-4960-B972-AAADA5E516F8}" type="datetime1">
              <a:rPr lang="en-US"/>
              <a:t>07/30/26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8280" cy="7543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114800" y="380880"/>
            <a:ext cx="4800600" cy="366012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Times New Roman"/>
              </a:rPr>
              <a:t>la puerta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313AFD-CE76-45C4-A015-D17D255CFCE9}" type="datetime1">
              <a:rPr lang="en-US"/>
              <a:t>07/30/26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8280" cy="7543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495680" y="228600"/>
            <a:ext cx="4191120" cy="623808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¡Abran la puerta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6A7C47-D342-4C78-8E5D-259643AA0BD5}" type="datetime1">
              <a:rPr lang="en-US"/>
              <a:t>07/30/26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8280" cy="7543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495680" y="228600"/>
            <a:ext cx="4191120" cy="521316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¡Cierren la puerta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1AFC3D-D162-42E4-A082-4714CCC6E795}" type="datetime1">
              <a:rPr lang="en-US"/>
              <a:t>07/30/26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-533520"/>
            <a:ext cx="10744200" cy="78152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28600" y="-228600"/>
            <a:ext cx="9982080" cy="11912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la grabadora de caset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714095-B599-4086-810F-36312C2F61CF}" type="datetime1">
              <a:rPr lang="en-US"/>
              <a:t>07/30/26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-285840"/>
            <a:ext cx="9524880" cy="71438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236" name=""/>
          <p:cNvSpPr/>
          <p:nvPr/>
        </p:nvSpPr>
        <p:spPr>
          <a:xfrm>
            <a:off x="380880" y="5334120"/>
            <a:ext cx="8915400" cy="1008360"/>
          </a:xfrm>
          <a:prstGeom prst="rect">
            <a:avLst/>
          </a:prstGeom>
          <a:solidFill>
            <a:srgbClr val="6600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El estudiante que duerm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317EF8-B6F4-4F71-B8C5-2C888C66D5CD}" type="datetime1">
              <a:rPr lang="en-US"/>
              <a:t>07/30/2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28600" y="5029200"/>
            <a:ext cx="8686800" cy="155700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la bander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C52D3B-05A9-4EE1-8125-861E8DC95ED5}" type="datetime1">
              <a:rPr lang="en-US"/>
              <a:t>07/30/26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09480" y="5562720"/>
            <a:ext cx="853452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a tabla de bolétin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3C14CF-51EA-464F-876C-16018C677D9B}" type="datetime1">
              <a:rPr lang="en-US"/>
              <a:t>07/30/26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762120" y="0"/>
            <a:ext cx="9906120" cy="74296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80880" y="4724280"/>
            <a:ext cx="8458200" cy="1877040"/>
          </a:xfrm>
          <a:prstGeom prst="rect">
            <a:avLst/>
          </a:prstGeom>
          <a:solidFill>
            <a:srgbClr val="9999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Times New Roman"/>
              </a:rPr>
              <a:t>la basura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AFF194-6D27-4A71-B839-28CB0362788B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17800" y="-611280"/>
            <a:ext cx="5326200" cy="7469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4920" y="449280"/>
            <a:ext cx="3809880" cy="3782160"/>
          </a:xfrm>
          <a:prstGeom prst="rect">
            <a:avLst/>
          </a:prstGeom>
          <a:solidFill>
            <a:srgbClr val="99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los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lápice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1981080"/>
            <a:ext cx="2514600" cy="838440"/>
          </a:xfrm>
          <a:prstGeom prst="rightArrow">
            <a:avLst>
              <a:gd name="adj1" fmla="val 50000"/>
              <a:gd name="adj2" fmla="val 7497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6AEBAB-3FAD-4018-B19D-2AA67374FF59}" type="datetime1">
              <a:rPr lang="en-US"/>
              <a:t>07/30/26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685800" y="457200"/>
          <a:ext cx="8229600" cy="43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"/>
                    <a:ext cx="822960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914400" y="4800600"/>
            <a:ext cx="7696080" cy="17089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cc00"/>
                </a:solidFill>
                <a:latin typeface="Times New Roman"/>
              </a:rPr>
              <a:t>el perforator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F170E1-FEA9-453B-8885-D796B2D15CF8}" type="datetime1">
              <a:rPr lang="en-US"/>
              <a:t>07/30/26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990720" y="762120"/>
            <a:ext cx="761976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epas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BBC6F8-AE10-4A2A-BD15-AB198DA7E646}" type="datetime1">
              <a:rPr lang="en-US"/>
              <a:t>07/30/26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2D4BB3-47AD-42C1-AD5F-939628142214}" type="datetime1">
              <a:rPr lang="en-US"/>
              <a:t>07/30/26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-762120" y="-228600"/>
            <a:ext cx="10211040" cy="765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05F667-3A97-4AB1-A5AC-C67FA4766EF4}" type="datetime1">
              <a:rPr lang="en-US"/>
              <a:t>07/30/26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0C492D-D176-4D3D-9BD0-60F3E486401B}" type="datetime1">
              <a:rPr lang="en-US"/>
              <a:t>07/30/26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-1905120" y="0"/>
            <a:ext cx="11049120" cy="828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207D50-33DB-4C9B-AF7C-814BC065A549}" type="datetime1">
              <a:rPr lang="en-US"/>
              <a:t>07/30/26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601200" cy="720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EE5B13-E0E7-4E80-A470-3A36A9E06232}" type="datetime1">
              <a:rPr lang="en-US"/>
              <a:t>07/30/2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-457200" y="-343080"/>
            <a:ext cx="10287000" cy="720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E24CA7-4F27-4824-9F0A-F77EA84EBD5C}" type="datetime1">
              <a:rPr lang="en-US"/>
              <a:t>07/30/26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601200" cy="720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9F174F-9873-4E83-8071-EED10F5F40D6}" type="datetime1">
              <a:rPr lang="en-US"/>
              <a:t>07/30/26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-1295280" y="0"/>
            <a:ext cx="10439280" cy="782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3FFEF2-F2ED-4095-8F8F-872BA41D522E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503280"/>
            <a:ext cx="9524880" cy="7620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5800" y="0"/>
            <a:ext cx="8458200" cy="14346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Times New Roman"/>
              </a:rPr>
              <a:t>la hoja de papel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86600" y="1219320"/>
            <a:ext cx="1371600" cy="2209680"/>
          </a:xfrm>
          <a:prstGeom prst="downArrow">
            <a:avLst>
              <a:gd name="adj1" fmla="val 50000"/>
              <a:gd name="adj2" fmla="val 40276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876920"/>
            <a:ext cx="6629400" cy="19519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66"/>
                </a:solidFill>
                <a:latin typeface="Times New Roman"/>
              </a:rPr>
              <a:t>la plum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(el bolígrafo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4419720"/>
            <a:ext cx="533520" cy="1218960"/>
          </a:xfrm>
          <a:prstGeom prst="upArrow">
            <a:avLst>
              <a:gd name="adj1" fmla="val 50000"/>
              <a:gd name="adj2" fmla="val 5711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019AF6-7205-4CEC-8B7F-EC0D74D66162}" type="datetime1">
              <a:rPr lang="en-US"/>
              <a:t>07/30/26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-609480" y="-457200"/>
            <a:ext cx="10134360" cy="760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095EDA-4E13-4D82-AE14-FDA017BE974D}" type="datetime1">
              <a:rPr lang="en-US"/>
              <a:t>07/30/26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10C5EC-9890-4BD1-8047-61E9DCD43DC8}" type="datetime1">
              <a:rPr lang="en-US"/>
              <a:t>07/30/26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-609480" y="-571680"/>
            <a:ext cx="10515600" cy="788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F0CD2E-6436-4E57-8382-C64677012A18}" type="datetime1">
              <a:rPr lang="en-US"/>
              <a:t>07/30/26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-380880" y="-17136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DD523A-4451-4734-A690-5A3AA5026F3C}" type="datetime1">
              <a:rPr lang="en-US"/>
              <a:t>07/30/26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C7F9A4-F34B-402C-9B85-F3DDFDAFBB8F}" type="datetime1">
              <a:rPr lang="en-US"/>
              <a:t>07/30/26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601200" cy="720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1C63DE-26AD-4BD0-88D1-948A90595E0D}" type="datetime1">
              <a:rPr lang="en-US"/>
              <a:t>07/30/26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-399960"/>
            <a:ext cx="9677520" cy="725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012065-9553-438C-BC07-377A3680A319}" type="datetime1">
              <a:rPr lang="en-US"/>
              <a:t>07/30/2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-22860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774AC6-1937-4106-925B-BF7337B6E0AB}" type="datetime1">
              <a:rPr lang="en-US"/>
              <a:t>07/30/26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-380880" y="-28584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C520EF-0EA4-44DB-A2AC-D043042B846F}" type="datetime1">
              <a:rPr lang="en-US"/>
              <a:t>07/30/26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2FB381-8A18-4F6F-8ACD-EE3ADEFE1FB3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0" y="0"/>
            <a:ext cx="6858000" cy="18770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66"/>
                </a:solidFill>
                <a:latin typeface="Times New Roman"/>
              </a:rPr>
              <a:t>el elástico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01C3EF-96AF-49A2-9FB0-374A4C646039}" type="datetime1">
              <a:rPr lang="en-US"/>
              <a:t>07/30/26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04D401-E822-4D7E-B463-12A69D82BAF4}" type="datetime1">
              <a:rPr lang="en-US"/>
              <a:t>07/30/26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BA5BB4-7910-4D43-ACE6-85A5E9DB03AC}" type="datetime1">
              <a:rPr lang="en-US"/>
              <a:t>07/30/26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503510-8DE4-499C-80A6-2B257B31AAA6}" type="datetime1">
              <a:rPr lang="en-US"/>
              <a:t>07/30/26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-22860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B93AE8-E4DE-49F4-9325-E8018E8B673E}" type="datetime1">
              <a:rPr lang="en-US"/>
              <a:t>07/30/26</a:t>
            </a:fld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000160" y="-304920"/>
            <a:ext cx="5372280" cy="716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5B0757-498C-4779-88D4-2ACF4FE9C749}" type="datetime1">
              <a:rPr lang="en-US"/>
              <a:t>07/30/26</a:t>
            </a:fld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311EF4-8255-4432-8C37-5FB5CF9F2429}" type="datetime1">
              <a:rPr lang="en-US"/>
              <a:t>07/30/26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DC40A9-433D-4934-A261-5AA6E8E773EB}" type="datetime1">
              <a:rPr lang="en-US"/>
              <a:t>07/30/2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54CB51-A715-47FF-9227-CA4434DCF5AA}" type="datetime1">
              <a:rPr lang="en-US"/>
              <a:t>07/30/26</a:t>
            </a:fld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01B24B-BAD9-45FE-BAAE-30AA0C2F0A4E}" type="datetime1">
              <a:rPr lang="en-US"/>
              <a:t>07/30/26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-762120" y="0"/>
            <a:ext cx="9906120" cy="742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1F7C5C-576F-4D93-9D23-98A7A3AA3EEB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0T00:43:03Z</dcterms:created>
  <dc:creator>Newport News</dc:creator>
  <dc:description/>
  <dc:language>en-US</dc:language>
  <cp:lastModifiedBy>mknobbe</cp:lastModifiedBy>
  <dcterms:modified xsi:type="dcterms:W3CDTF">2009-01-05T16:29:07Z</dcterms:modified>
  <cp:revision>60</cp:revision>
  <dc:subject/>
  <dc:title>No Slide Title</dc:title>
</cp:coreProperties>
</file>