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6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50.wmf" ContentType="image/x-wmf"/>
  <Override PartName="/ppt/media/image43.jpeg" ContentType="image/jpeg"/>
  <Override PartName="/ppt/media/image44.wmf" ContentType="image/x-wmf"/>
  <Override PartName="/ppt/media/image42.jpeg" ContentType="image/jpeg"/>
  <Override PartName="/ppt/media/image41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88.jpeg" ContentType="image/jpeg"/>
  <Override PartName="/ppt/media/image30.wmf" ContentType="image/x-wmf"/>
  <Override PartName="/ppt/media/image39.jpeg" ContentType="image/jpeg"/>
  <Override PartName="/ppt/media/image8.jpeg" ContentType="image/jpeg"/>
  <Override PartName="/ppt/media/image91.png" ContentType="image/png"/>
  <Override PartName="/ppt/media/image49.wmf" ContentType="image/x-wmf"/>
  <Override PartName="/ppt/media/image12.wmf" ContentType="image/x-wmf"/>
  <Override PartName="/ppt/media/image48.wmf" ContentType="image/x-wmf"/>
  <Override PartName="/ppt/media/image11.wmf" ContentType="image/x-wmf"/>
  <Override PartName="/ppt/media/image76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15.wmf" ContentType="image/x-wmf"/>
  <Override PartName="/ppt/media/image3.wmf" ContentType="image/x-wmf"/>
  <Override PartName="/ppt/media/image46.jpeg" ContentType="image/jpeg"/>
  <Override PartName="/ppt/media/image45.jpeg" ContentType="image/jpeg"/>
  <Override PartName="/ppt/media/image72.jpeg" ContentType="image/jpeg"/>
  <Override PartName="/ppt/media/image20.wmf" ContentType="image/x-wmf"/>
  <Override PartName="/ppt/media/image57.wmf" ContentType="image/x-wmf"/>
  <Override PartName="/ppt/media/image24.wmf" ContentType="image/x-wmf"/>
  <Override PartName="/ppt/media/image85.jpeg" ContentType="image/jpeg"/>
  <Override PartName="/ppt/media/image59.wmf" ContentType="image/x-wmf"/>
  <Override PartName="/ppt/media/image89.wmf" ContentType="image/x-wmf"/>
  <Override PartName="/ppt/media/image75.jpeg" ContentType="image/jpeg"/>
  <Override PartName="/ppt/media/image19.wmf" ContentType="image/x-wmf"/>
  <Override PartName="/ppt/media/image26.wmf" ContentType="image/x-wmf"/>
  <Override PartName="/ppt/media/image67.jpeg" ContentType="image/jpeg"/>
  <Override PartName="/ppt/media/image87.jpeg" ContentType="image/jpeg"/>
  <Override PartName="/ppt/media/image28.wmf" ContentType="image/x-wmf"/>
  <Override PartName="/ppt/media/image36.jpeg" ContentType="image/jpeg"/>
  <Override PartName="/ppt/media/image22.wmf" ContentType="image/x-wmf"/>
  <Override PartName="/ppt/media/image80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63.wmf" ContentType="image/x-wmf"/>
  <Override PartName="/ppt/media/image84.jpeg" ContentType="image/jpeg"/>
  <Override PartName="/ppt/media/image69.wmf" ContentType="image/x-wmf"/>
  <Override PartName="/ppt/media/image14.wmf" ContentType="image/x-wmf"/>
  <Override PartName="/ppt/media/image2.wmf" ContentType="image/x-wmf"/>
  <Override PartName="/ppt/media/image81.jpeg" ContentType="image/jpeg"/>
  <Override PartName="/ppt/media/image32.wmf" ContentType="image/x-wmf"/>
  <Override PartName="/ppt/media/image73.jpeg" ContentType="image/jpeg"/>
  <Override PartName="/ppt/media/image21.gif" ContentType="image/gif"/>
  <Override PartName="/ppt/media/image68.jpeg" ContentType="image/jpeg"/>
  <Override PartName="/ppt/media/image29.wmf" ContentType="image/x-wmf"/>
  <Override PartName="/ppt/media/image71.jpeg" ContentType="image/jpeg"/>
  <Override PartName="/ppt/media/image60.jpeg" ContentType="image/jpeg"/>
  <Override PartName="/ppt/media/image77.jpeg" ContentType="image/jpeg"/>
  <Override PartName="/ppt/media/image70.png" ContentType="image/png"/>
  <Override PartName="/ppt/media/image64.jpeg" ContentType="image/jpeg"/>
  <Override PartName="/ppt/media/image61.jpeg" ContentType="image/jpeg"/>
  <Override PartName="/ppt/media/image78.jpeg" ContentType="image/jpeg"/>
  <Override PartName="/ppt/media/image31.wmf" ContentType="image/x-wmf"/>
  <Override PartName="/ppt/media/image65.jpeg" ContentType="image/jpeg"/>
  <Override PartName="/ppt/media/image9.jpeg" ContentType="image/jpeg"/>
  <Override PartName="/ppt/media/image51.wmf" ContentType="image/x-wmf"/>
  <Override PartName="/ppt/media/image23.jpeg" ContentType="image/jpeg"/>
  <Override PartName="/ppt/media/image82.jpeg" ContentType="image/jpeg"/>
  <Override PartName="/ppt/media/image52.wmf" ContentType="image/x-wmf"/>
  <Override PartName="/ppt/media/image83.jpeg" ContentType="image/jpeg"/>
  <Override PartName="/ppt/media/image33.wmf" ContentType="image/x-wmf"/>
  <Override PartName="/ppt/media/image16.wmf" ContentType="image/x-wmf"/>
  <Override PartName="/ppt/media/image66.jpeg" ContentType="image/jpeg"/>
  <Override PartName="/ppt/media/image4.wmf" ContentType="image/x-wmf"/>
  <Override PartName="/ppt/media/image1.wmf" ContentType="image/x-wmf"/>
  <Override PartName="/ppt/media/image13.wmf" ContentType="image/x-wmf"/>
  <Override PartName="/ppt/media/image10.jpeg" ContentType="image/jpeg"/>
  <Override PartName="/ppt/media/image86.jpeg" ContentType="image/jpeg"/>
  <Override PartName="/ppt/media/image27.jpeg" ContentType="image/jpeg"/>
  <Override PartName="/ppt/media/image17.wmf" ContentType="image/x-wmf"/>
  <Override PartName="/ppt/media/image5.wmf" ContentType="image/x-wmf"/>
  <Override PartName="/ppt/media/image35.wmf" ContentType="image/x-wmf"/>
  <Override PartName="/ppt/media/image47.jpeg" ContentType="image/jpeg"/>
  <Override PartName="/ppt/media/image25.wmf" ContentType="image/x-wmf"/>
  <Override PartName="/ppt/media/image9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44A99-4B20-4790-8D90-1062B0EF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AB27B-A224-49F7-9C2E-82E67D5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8EE4D-7256-436E-B559-7A3FD512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A3D3-851D-4367-9090-0184A225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94752-BD01-4F3D-8ED1-72FBBDDD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B085-A723-42CE-8E7C-8797F6AA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3E360-4C44-48C3-AC64-F6BFC2D1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A61B-E946-40F0-945C-3E8A6290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3DDC-656B-462D-A379-1A44854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93BF-9DBE-4C10-A85C-6EDE0FE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4D0F0-8C10-4C81-8639-04858F41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2A6AF-AC75-4080-956C-7C6E430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E27A6-6DF8-4889-B5DB-6AB629E5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EAB58-C8D7-485A-AFD2-235A9D35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3756-9730-4758-B964-27BE717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9D4FB-1785-4DD3-8D54-47F30F89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1F1AF-567E-4572-97D8-9E51E9BC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8891-6F13-49C8-9B58-0D70A858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E34B-DE23-4C42-9AD3-0AB920E2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7C90-C0DD-4BF5-B9F6-446C93F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680ED-A386-4833-B8D4-E0F0C0D1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4BE2-E78E-4189-B0A6-7D31AF7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D365-139B-4962-876E-E3B8A09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8053-6F13-46B5-8FC7-CF40112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AFA-97CE-4EA8-A949-CA591F70FD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E70A-942B-4493-BC44-EB31FFC92DB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B46-C3DA-4C33-9F70-2A72F2411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5058-B0D9-4484-9E8A-C498DAC2356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949320"/>
            <a:ext cx="6324480" cy="5908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228600"/>
            <a:ext cx="8153280" cy="2059920"/>
          </a:xfrm>
          <a:prstGeom prst="rect">
            <a:avLst/>
          </a:prstGeom>
          <a:solidFill>
            <a:srgbClr val="99ff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993300"/>
                </a:solidFill>
                <a:latin typeface="Times New Roman"/>
              </a:rPr>
              <a:t>la escuel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180FCE-4B37-4F91-8628-4F69B8805526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182520" y="-2057400"/>
            <a:ext cx="9326520" cy="1143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0"/>
            <a:ext cx="822960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os elástico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6AF642-F2DB-43B2-8C42-E7B78EAD0184}" type="datetime1">
              <a:rPr lang="en-US"/>
              <a:t>07/28/26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2257560" y="0"/>
          <a:ext cx="504648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0"/>
                    <a:ext cx="504648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6F18E-DBB1-4686-9E8E-A6678A31F6D8}" type="datetime1">
              <a:rPr lang="en-US"/>
              <a:t>07/28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48C332-39EA-4E9C-A8BF-DE52D4E8CE38}" type="datetime1">
              <a:rPr lang="en-US"/>
              <a:t>07/28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609480" y="182520"/>
          <a:ext cx="8001000" cy="61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520"/>
                    <a:ext cx="800100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D6247F-401A-49B1-A4ED-EDFFACB569F4}" type="datetime1">
              <a:rPr lang="en-US"/>
              <a:t>07/28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C85FB5-8366-47F4-B2ED-A86BF699A602}" type="datetime1">
              <a:rPr lang="en-US"/>
              <a:t>07/28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685800" y="990720"/>
          <a:ext cx="7848720" cy="52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848720" cy="52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62F96C-010A-4CF4-987F-2E4DFFB6A75E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090880"/>
            <a:ext cx="6553440" cy="47671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n-US" sz="8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goma de borra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795C71-D6C0-45BA-B99D-84480FD4637E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3352680"/>
            <a:ext cx="8381880" cy="2895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43000" y="228600"/>
            <a:ext cx="7010280" cy="225756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la regla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7E4DF1-6305-4B08-8906-D906101C10AC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849320"/>
            <a:ext cx="6248520" cy="500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304920"/>
            <a:ext cx="71629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DE793B-3582-471A-A572-FBBF37F72318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11280" y="1981080"/>
            <a:ext cx="4821480" cy="4876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0"/>
            <a:ext cx="7391520" cy="187704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s tijer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59DA17-36F4-4BC4-8BB8-2F9D49B80827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4920"/>
            <a:ext cx="8839080" cy="170892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grapad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A92F90-92FA-4579-8299-516DE2EFB2A9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025960" cy="586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04920" y="304920"/>
            <a:ext cx="8458200" cy="1557000"/>
          </a:xfrm>
          <a:prstGeom prst="rect">
            <a:avLst/>
          </a:prstGeom>
          <a:solidFill>
            <a:srgbClr val="99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los cuaderno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8F1E7D-02FE-4E82-BF9D-E5AD771E2E85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782040" cy="5651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920"/>
            <a:ext cx="8610480" cy="14346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la cinta adhesiv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5B7361-3019-4D9D-97FC-F6F15079A8D9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6324840" cy="5245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0880" y="304920"/>
            <a:ext cx="80773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camp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B7ABBA-9809-47EB-B804-8A17B6CEF6F2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51307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228600"/>
            <a:ext cx="746748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el pupitre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02EB11-0EBE-4AAC-80AB-DBDFE513490B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1492200"/>
            <a:ext cx="4908600" cy="5365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304920"/>
            <a:ext cx="8534520" cy="11912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Times New Roman"/>
              </a:rPr>
              <a:t>Las cosas para la clas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F719F-8FBA-4CD6-842F-DED6DD16E0CA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10480" cy="547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28600" y="457200"/>
            <a:ext cx="8763120" cy="131292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estante de libr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A422A1-3D67-4D98-9905-9173418A56A1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5334120"/>
            <a:ext cx="655308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computado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59436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9BA6A1-ED8D-4626-BA37-A6835070B854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00200" y="4251240"/>
            <a:ext cx="7010280" cy="25318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el monitor/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362320" y="-380880"/>
            <a:ext cx="401004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A79F1-1D89-4171-B70E-DC2C8FF81023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teclad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82608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CE82556-6208-4C2F-A0B3-FA10004674AF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impres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71600" y="304920"/>
            <a:ext cx="6705720" cy="41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73F4B1-131F-476C-BB7A-DF0B1A6EB207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el disque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87656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D0082F-3F7F-42B9-A8F7-BEA7CEE0D7B3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362320" y="5181480"/>
            <a:ext cx="3962160" cy="11912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l rató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105520" y="1599840"/>
            <a:ext cx="914400" cy="3886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F201DDA-69F9-4F2E-ADD3-FA421100A20D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181480" cy="475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5562720"/>
            <a:ext cx="8839080" cy="916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a afombrilla para el rató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2000" y="3429000"/>
            <a:ext cx="457200" cy="22860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A2D09E-8E07-4186-B095-C40F3F40962F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5073480"/>
            <a:ext cx="8382240" cy="155700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tecl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858000" cy="453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9457B4-95F2-4744-8E63-1F9F1FC4A466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45120" y="1160640"/>
            <a:ext cx="4898880" cy="5697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28600" y="304920"/>
            <a:ext cx="51814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mochi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B6C02E-0F59-450D-A017-ADA22700063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5715000" cy="3914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23880" y="152280"/>
            <a:ext cx="7010640" cy="18770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cc"/>
                </a:solidFill>
                <a:latin typeface="Times New Roman"/>
              </a:rPr>
              <a:t>la pizar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DE1307-6A22-4CDB-A08D-694FDEE3C1C3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62120" y="380880"/>
            <a:ext cx="7238880" cy="131292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pantall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2209680" cy="1981080"/>
          </a:xfrm>
          <a:custGeom>
            <a:avLst/>
            <a:gdLst>
              <a:gd name="textAreaLeft" fmla="*/ 352800 w 2209680"/>
              <a:gd name="textAreaRight" fmla="*/ 1588320 w 2209680"/>
              <a:gd name="textAreaTop" fmla="*/ 265320 h 1981080"/>
              <a:gd name="textAreaBottom" fmla="*/ 17157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902" hR="21600" stAng="10800000" swAng="5400000"/>
                <a:lnTo>
                  <a:pt x="12076" y="0"/>
                </a:lnTo>
                <a:arcTo wR="6902" hR="21600" stAng="-5400000" swAng="2526412"/>
                <a:lnTo>
                  <a:pt x="21205" y="14400"/>
                </a:lnTo>
                <a:lnTo>
                  <a:pt x="16391" y="21600"/>
                </a:lnTo>
                <a:lnTo>
                  <a:pt x="10787" y="14400"/>
                </a:lnTo>
                <a:lnTo>
                  <a:pt x="13409" y="14400"/>
                </a:lnTo>
                <a:arcTo wR="6902" hR="21600" stAng="-2873588" swAng="-2084748"/>
                <a:lnTo>
                  <a:pt x="9489" y="1575"/>
                </a:lnTo>
                <a:arcTo wR="6902" hR="21600" stAng="-5841664" swAng="-4958336"/>
                <a:close/>
              </a:path>
              <a:path fill="darkenLess" w="21600" h="21600">
                <a:moveTo>
                  <a:pt x="0" y="21600"/>
                </a:moveTo>
                <a:arcTo wR="6902" hR="21600" stAng="10800000" swAng="5400000"/>
                <a:lnTo>
                  <a:pt x="6902" y="0"/>
                </a:lnTo>
                <a:arcTo wR="6902" hR="21600" stAng="-5400000" swAng="441664"/>
                <a:lnTo>
                  <a:pt x="9489" y="1575"/>
                </a:lnTo>
                <a:arcTo wR="6902" hR="21600" stAng="-5841664" swAng="-4958336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902943D-033E-40DC-B4A7-6E3FBE7497FB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9880" y="1346040"/>
            <a:ext cx="4910400" cy="5511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28600"/>
            <a:ext cx="3581280" cy="33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66"/>
                </a:solidFill>
                <a:latin typeface="Times New Roman"/>
              </a:rPr>
              <a:t>el globo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023552-F844-4C20-AB04-A526370918D9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060720" cy="6095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352680" y="609480"/>
            <a:ext cx="5486400" cy="275364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El pegamento</a:t>
            </a:r>
            <a:r>
              <a:rPr b="1" lang="en-US" sz="10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4CB3A98-FA6C-455E-BAA2-F11A1F640371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05360" cy="573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380880"/>
            <a:ext cx="82296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99"/>
                </a:solidFill>
                <a:latin typeface="Times New Roman"/>
              </a:rPr>
              <a:t>las silla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1F8C25-EB4E-4549-81B4-E1AD9079D4F6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0"/>
            <a:ext cx="8305920" cy="225756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0000"/>
                </a:solidFill>
                <a:latin typeface="Times New Roman"/>
              </a:rPr>
              <a:t>el reloj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DFF3BC-2957-46C4-947C-7FB5FA804890}" type="datetime1">
              <a:rPr lang="en-US"/>
              <a:t>07/28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838080" y="-285840"/>
            <a:ext cx="10362960" cy="7772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33520" y="4572000"/>
            <a:ext cx="8305560" cy="1557000"/>
          </a:xfrm>
          <a:prstGeom prst="rect">
            <a:avLst/>
          </a:prstGeom>
          <a:solidFill>
            <a:srgbClr val="99ccff"/>
          </a:solidFill>
          <a:ln w="7632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a calculado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0A326E-EC9E-40E7-8E4D-5BD1485E0CD4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33520" y="0"/>
          <a:ext cx="3160440" cy="70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316044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4038480" y="533520"/>
            <a:ext cx="4267440" cy="3020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cc00"/>
                </a:solidFill>
                <a:latin typeface="Times New Roman"/>
              </a:rPr>
              <a:t>el compá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6D71B0-5C61-4798-A3DD-6125C047A383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90720" y="380880"/>
            <a:ext cx="81532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479066-E061-4180-B547-7C59E153788E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5076720" cy="6248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8915400" cy="1708920"/>
          </a:xfrm>
          <a:prstGeom prst="rect">
            <a:avLst/>
          </a:prstGeom>
          <a:solidFill>
            <a:srgbClr val="ffcc66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0000"/>
                </a:solidFill>
                <a:latin typeface="Times New Roman"/>
              </a:rPr>
              <a:t>la ventan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438055-5D55-406E-8C46-C4E89E5752DD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859280" cy="731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304920"/>
            <a:ext cx="8153640" cy="27752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Escriban a la pizarra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F610DD-FB81-4EA4-8525-ED757489D7D1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9144000" cy="3575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228600"/>
            <a:ext cx="6553080" cy="2471040"/>
          </a:xfrm>
          <a:prstGeom prst="rect">
            <a:avLst/>
          </a:prstGeom>
          <a:solidFill>
            <a:srgbClr val="ffcc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3300"/>
                </a:solidFill>
                <a:latin typeface="Times New Roman"/>
              </a:rPr>
              <a:t>el libro</a:t>
            </a:r>
            <a:endParaRPr b="0" lang="en-US" sz="1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5DB32B-370D-4A9D-8F13-F1888AD59163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486400" y="762120"/>
            <a:ext cx="3657600" cy="423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Times New Roman"/>
              </a:rPr>
              <a:t>Levanten</a:t>
            </a:r>
            <a:r>
              <a:rPr b="1" lang="en-US" sz="9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s mano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5181480" cy="4726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284E0C-D492-46F8-8230-7B2A931C620B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14400" y="4525920"/>
            <a:ext cx="716292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Escuchen.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4D1C5F-95E1-4647-9E5A-19B46943E1A1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15200" cy="4873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scriban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7014C0-0F73-4AD7-A6DE-752CF00D4B81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2092320"/>
            <a:ext cx="9144000" cy="4765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362320" y="228600"/>
            <a:ext cx="49528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003366"/>
                </a:solidFill>
                <a:latin typeface="Times New Roman"/>
              </a:rPr>
              <a:t>Lean.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947B82-43EB-446A-A94A-CD904C1842E2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228600"/>
            <a:ext cx="8001000" cy="1708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los autobuses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D05BEA8A-4803-4A37-9121-566DD6C6E1D7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924680" cy="6159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4920" y="228600"/>
            <a:ext cx="8534160" cy="13129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uedo ir al cajón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99194D9-2413-4F98-A49F-2A7FDC0FE60F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0880" y="5029200"/>
            <a:ext cx="8458200" cy="15570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clase de art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0C5C31-FDA2-4166-A24A-6A138066E960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28600" y="5334120"/>
            <a:ext cx="8915400" cy="1099440"/>
          </a:xfrm>
          <a:prstGeom prst="rect">
            <a:avLst/>
          </a:prstGeom>
          <a:solidFill>
            <a:srgbClr val="ffcc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la clase de francé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0730D6-8E55-40B4-AE9B-50A1C0821F07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5257800"/>
            <a:ext cx="8915400" cy="1312920"/>
          </a:xfrm>
          <a:prstGeom prst="rect">
            <a:avLst/>
          </a:prstGeom>
          <a:solidFill>
            <a:srgbClr val="ffcc00"/>
          </a:solidFill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quím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67FEFE-C910-45AE-B2F8-74447FCA5866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8001000" cy="578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380880"/>
            <a:ext cx="8001000" cy="7642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en con la computador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A63A01F-0D39-4A16-9936-5E64B3DCCB3B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2222640"/>
            <a:ext cx="6019920" cy="463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creyon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2A17B7-2F71-45F9-BC51-A0E46DEF3BA5}" type="datetime1">
              <a:rPr lang="en-US"/>
              <a:t>07/28/26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733920" y="1701720"/>
            <a:ext cx="2127240" cy="5156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134040" y="2057400"/>
            <a:ext cx="2559240" cy="4191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-304920" y="2057400"/>
            <a:ext cx="4071960" cy="426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62120" y="228600"/>
            <a:ext cx="7772400" cy="1099440"/>
          </a:xfrm>
          <a:prstGeom prst="rect">
            <a:avLst/>
          </a:prstGeom>
          <a:solidFill>
            <a:srgbClr val="ffff00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¡Rápido! ¡Apúrense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EEAE7FA-1B59-45CC-9643-C9C7D9303745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359680" cy="5313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04920" y="380880"/>
            <a:ext cx="8534160" cy="8251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aquen apuntes en el cuaderno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8BBFB75-54DA-4F37-A5D2-20A3E4E68C7E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" y="5638680"/>
            <a:ext cx="8686800" cy="916920"/>
          </a:xfrm>
          <a:prstGeom prst="rect">
            <a:avLst/>
          </a:prstGeom>
          <a:solidFill>
            <a:srgbClr val="6600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a clase de educación física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0E64CC-7E6C-410D-8AE9-CF264D508FC7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5105520"/>
            <a:ext cx="8763120" cy="1708920"/>
          </a:xfrm>
          <a:prstGeom prst="rect">
            <a:avLst/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la bibliotec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69C4DE-D7FE-459D-AFEE-A4E4E8ECB59A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0880" y="4876920"/>
            <a:ext cx="8534520" cy="131292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clase de músic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3157C-8ACC-46C4-B1CD-BC46D01E1A71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5670720" cy="6927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04920" y="380880"/>
            <a:ext cx="8610480" cy="1312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Times New Roman"/>
              </a:rPr>
              <a:t>los lapices de cer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3CD679CB-1C79-4FC2-9501-F459460350EA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8077320" cy="60274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228600"/>
            <a:ext cx="830592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profesor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E2FF285B-A483-451A-B935-B9301B4094BB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6477120" cy="62434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380880"/>
            <a:ext cx="861048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99"/>
                </a:solidFill>
                <a:latin typeface="Times New Roman"/>
              </a:rPr>
              <a:t>el sujetapapel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2133720" cy="3657600"/>
          </a:xfrm>
          <a:custGeom>
            <a:avLst/>
            <a:gdLst>
              <a:gd name="textAreaLeft" fmla="*/ 612360 w 2133720"/>
              <a:gd name="textAreaRight" fmla="*/ 1827720 w 2133720"/>
              <a:gd name="textAreaTop" fmla="*/ 2106360 h 3657600"/>
              <a:gd name="textAreaBottom" fmla="*/ 313272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55C543F0-F939-4953-AA11-07693AF8E98B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304920"/>
            <a:ext cx="4267080" cy="2059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99"/>
                </a:solidFill>
                <a:latin typeface="Times New Roman"/>
              </a:rPr>
              <a:t>la luz</a:t>
            </a:r>
            <a:endParaRPr b="0" lang="en-US" sz="1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40120" y="-304920"/>
            <a:ext cx="53038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480527-D703-415A-A591-CA1C0C77086D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876920"/>
            <a:ext cx="8610480" cy="1708920"/>
          </a:xfrm>
          <a:prstGeom prst="rect">
            <a:avLst/>
          </a:prstGeom>
          <a:solidFill>
            <a:srgbClr val="cc99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3366"/>
                </a:solidFill>
                <a:latin typeface="Times New Roman"/>
              </a:rPr>
              <a:t>la cafetéria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3C4B04-F9C9-48B2-8F39-D6CAA024DAA4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872480" cy="43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" y="304920"/>
            <a:ext cx="8153280" cy="1708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0000"/>
                </a:solidFill>
                <a:latin typeface="Times New Roman"/>
              </a:rPr>
              <a:t>el marcad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A8383-222C-413B-BE83-74B91F9CD4BD}" type="datetime1">
              <a:rPr lang="en-US"/>
              <a:t>07/28/2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62120" y="4602240"/>
            <a:ext cx="7467480" cy="2257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003366"/>
                </a:solidFill>
                <a:latin typeface="Times New Roman"/>
              </a:rPr>
              <a:t>el pasillo</a:t>
            </a:r>
            <a:endParaRPr b="0" lang="en-US" sz="1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3769B9-4634-4C78-989E-3C7833602412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0"/>
            <a:ext cx="5638680" cy="143460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la clínica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809880"/>
            <a:ext cx="5562720" cy="1191240"/>
          </a:xfrm>
          <a:prstGeom prst="rect">
            <a:avLst/>
          </a:prstGeom>
          <a:solidFill>
            <a:srgbClr val="ff33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a enfermer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43F21D-AD98-4024-96AE-0B53718A3BCB}" type="datetime1">
              <a:rPr lang="en-US"/>
              <a:t>07/28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114800" y="380880"/>
            <a:ext cx="4800600" cy="36601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puert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AAE2D2-BC95-47D6-B1FD-9DF8012BD335}" type="datetime1">
              <a:rPr lang="en-US"/>
              <a:t>07/28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228600"/>
            <a:ext cx="4191120" cy="623808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¡Abran la puerta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5FF78C-4F1F-4611-9076-A3D7CE5B57C5}" type="datetime1">
              <a:rPr lang="en-US"/>
              <a:t>07/28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8280" cy="7543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95680" y="228600"/>
            <a:ext cx="4191120" cy="521316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¡Cierren la puerta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D22089-C093-4C4D-A479-C5702F4756E8}" type="datetime1">
              <a:rPr lang="en-US"/>
              <a:t>07/28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10744200" cy="7815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28600" y="-228600"/>
            <a:ext cx="9982080" cy="119124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la grabadora de caset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78AFFD-1FFF-4F8B-A24F-398F63AA0CA2}" type="datetime1">
              <a:rPr lang="en-US"/>
              <a:t>07/28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524880" cy="71438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380880" y="5334120"/>
            <a:ext cx="8915400" cy="1008360"/>
          </a:xfrm>
          <a:prstGeom prst="rect">
            <a:avLst/>
          </a:prstGeom>
          <a:solidFill>
            <a:srgbClr val="6600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El estudiante que duerm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4DDA53-BFBE-433C-9CE7-FEBA90CC0E0C}" type="datetime1">
              <a:rPr lang="en-US"/>
              <a:t>07/28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28600" y="5029200"/>
            <a:ext cx="8686800" cy="1557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la bandera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92CF7F-999D-4586-BF4F-ED85BDA79961}" type="datetime1">
              <a:rPr lang="en-US"/>
              <a:t>07/28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5562720"/>
            <a:ext cx="8534520" cy="13129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la tabla de bolétin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E29BA6-CB21-49FE-9432-85EE858C5681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80880" y="4724280"/>
            <a:ext cx="8458200" cy="1877040"/>
          </a:xfrm>
          <a:prstGeom prst="rect">
            <a:avLst/>
          </a:prstGeom>
          <a:solidFill>
            <a:srgbClr val="99993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</a:rPr>
              <a:t>la basur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97C0AF-BFC4-486A-9991-4AA4AC5303F2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17800" y="-611280"/>
            <a:ext cx="5326200" cy="746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4920" y="449280"/>
            <a:ext cx="3809880" cy="3782160"/>
          </a:xfrm>
          <a:prstGeom prst="rect">
            <a:avLst/>
          </a:prstGeom>
          <a:solidFill>
            <a:srgbClr val="99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lápices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981080"/>
            <a:ext cx="2514600" cy="838440"/>
          </a:xfrm>
          <a:prstGeom prst="rightArrow">
            <a:avLst>
              <a:gd name="adj1" fmla="val 50000"/>
              <a:gd name="adj2" fmla="val 7497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40B839-C21D-48B8-A354-EEE101293444}" type="datetime1">
              <a:rPr lang="en-US"/>
              <a:t>07/28/26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685800" y="457200"/>
          <a:ext cx="8229600" cy="43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22960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14400" y="4800600"/>
            <a:ext cx="7696080" cy="17089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cc00"/>
                </a:solidFill>
                <a:latin typeface="Times New Roman"/>
              </a:rPr>
              <a:t>el perforator</a:t>
            </a:r>
            <a:endParaRPr b="0" lang="en-US" sz="10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A6E84C-808F-4D96-8446-253CAD8326E4}" type="datetime1">
              <a:rPr lang="en-US"/>
              <a:t>07/28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990720" y="762120"/>
            <a:ext cx="76197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epaso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41DEB7-9E85-4EBF-B04B-A6390E9BF89B}" type="datetime1">
              <a:rPr lang="en-US"/>
              <a:t>07/28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1BA50B-03EB-49D2-AF68-36034036274D}" type="datetime1">
              <a:rPr lang="en-US"/>
              <a:t>07/28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-762120" y="-228600"/>
            <a:ext cx="10211040" cy="765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28EA54-000D-469E-9EDF-CE23AC3FC520}" type="datetime1">
              <a:rPr lang="en-US"/>
              <a:t>07/28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67C135-C39F-4E39-9701-7276053464F7}" type="datetime1">
              <a:rPr lang="en-US"/>
              <a:t>07/28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1905120" y="0"/>
            <a:ext cx="11049120" cy="828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9AD9135-38B0-4987-BFE3-F985D86F5218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F2161C-990C-4742-88BA-329178FBDDA2}" type="datetime1">
              <a:rPr lang="en-US"/>
              <a:t>07/28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457200" y="-343080"/>
            <a:ext cx="102870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FEEA7-AF36-4CE2-97C1-87E315A54CCE}" type="datetime1">
              <a:rPr lang="en-US"/>
              <a:t>07/28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9A30BD-D2A3-4E3B-A264-971EE2CC26F3}" type="datetime1">
              <a:rPr lang="en-US"/>
              <a:t>07/28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1295280" y="0"/>
            <a:ext cx="10439280" cy="782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289BD7-37A1-47EC-9058-D613E8BC99D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0"/>
            <a:ext cx="8458200" cy="1434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66"/>
                </a:solidFill>
                <a:latin typeface="Times New Roman"/>
              </a:rPr>
              <a:t>la hoja de pape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1219320"/>
            <a:ext cx="1371600" cy="2209680"/>
          </a:xfrm>
          <a:prstGeom prst="downArrow">
            <a:avLst>
              <a:gd name="adj1" fmla="val 50000"/>
              <a:gd name="adj2" fmla="val 40276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4876920"/>
            <a:ext cx="6629400" cy="19519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66"/>
                </a:solidFill>
                <a:latin typeface="Times New Roman"/>
              </a:rPr>
              <a:t>la pluma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(el bolígrafo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419720"/>
            <a:ext cx="533520" cy="1218960"/>
          </a:xfrm>
          <a:prstGeom prst="upArrow">
            <a:avLst>
              <a:gd name="adj1" fmla="val 50000"/>
              <a:gd name="adj2" fmla="val 57119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83D744-22C6-4293-8BFB-DEF7E865CB4E}" type="datetime1">
              <a:rPr lang="en-US"/>
              <a:t>07/28/26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10134360" cy="76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A0B303-71AA-468D-8696-509CA7B3A36F}" type="datetime1">
              <a:rPr lang="en-US"/>
              <a:t>07/28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C91591-D1A2-4060-9756-D873C94CD08D}" type="datetime1">
              <a:rPr lang="en-US"/>
              <a:t>07/28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-609480" y="-571680"/>
            <a:ext cx="10515600" cy="788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C0D786-6EBF-47F3-9218-14766552B99B}" type="datetime1">
              <a:rPr lang="en-US"/>
              <a:t>07/28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-38088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0C2FA9-F415-481A-9ED4-02446EBA2A68}" type="datetime1">
              <a:rPr lang="en-US"/>
              <a:t>07/28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03F735-E12C-4984-B7B5-22DA4AFBAC34}" type="datetime1">
              <a:rPr lang="en-US"/>
              <a:t>07/28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4A0385-6B1D-4E75-9A7E-9F2E3DE3E512}" type="datetime1">
              <a:rPr lang="en-US"/>
              <a:t>07/28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677520" cy="725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94DDA7-9F33-4949-AED8-DDA9DCF3C4FE}" type="datetime1">
              <a:rPr lang="en-US"/>
              <a:t>07/28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BE868B-0964-433C-A167-8265A5A7927A}" type="datetime1">
              <a:rPr lang="en-US"/>
              <a:t>07/28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-380880" y="-28584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5AEAB6-A565-4B03-BF84-4AEBC409A247}" type="datetime1">
              <a:rPr lang="en-US"/>
              <a:t>07/28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A194245-9C64-450A-A3FF-A8FA9BBFBCB8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0" y="0"/>
            <a:ext cx="6858000" cy="1877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66"/>
                </a:solidFill>
                <a:latin typeface="Times New Roman"/>
              </a:rPr>
              <a:t>el elástico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404BD7-88BE-421A-8630-3D01CD23C878}" type="datetime1">
              <a:rPr lang="en-US"/>
              <a:t>07/28/26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9CAC73-B8DD-4300-BC25-1D0BE7296297}" type="datetime1">
              <a:rPr lang="en-US"/>
              <a:t>07/28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B01751-EE1F-4782-B6F5-E006A75727AD}" type="datetime1">
              <a:rPr lang="en-US"/>
              <a:t>07/28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A068E74-D74E-46E3-A66E-7470C2557A56}" type="datetime1">
              <a:rPr lang="en-US"/>
              <a:t>07/28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50F7A-CCC6-4CD2-BC3A-529C6714475D}" type="datetime1">
              <a:rPr lang="en-US"/>
              <a:t>07/28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000160" y="-304920"/>
            <a:ext cx="5372280" cy="716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32616B-90A5-4125-8BEA-FB1F71891908}" type="datetime1">
              <a:rPr lang="en-US"/>
              <a:t>07/28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2DEB2B-F6DF-41D6-B0AD-15561CE56B00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1FEB93-C2F4-4246-B5F5-F6725518036A}" type="datetime1">
              <a:rPr lang="en-US"/>
              <a:t>07/28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B0CFD4-5B24-4B9C-870E-F5FED4FA0E0D}" type="datetime1">
              <a:rPr lang="en-US"/>
              <a:t>07/28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A3207E-F41A-40C1-81E7-478B536E924B}" type="datetime1">
              <a:rPr lang="en-US"/>
              <a:t>07/28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E90530-1CD2-4458-B8B2-A5913357384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00:43:03Z</dcterms:created>
  <dc:creator>Newport News</dc:creator>
  <dc:description/>
  <dc:language>en-US</dc:language>
  <cp:lastModifiedBy>mknobbe</cp:lastModifiedBy>
  <dcterms:modified xsi:type="dcterms:W3CDTF">2009-01-05T16:29:07Z</dcterms:modified>
  <cp:revision>60</cp:revision>
  <dc:subject/>
  <dc:title>No Slide Title</dc:title>
</cp:coreProperties>
</file>