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wmf" ContentType="image/x-wmf"/>
  <Override PartName="/ppt/media/image34.jpeg" ContentType="image/jpeg"/>
  <Override PartName="/ppt/media/image56.wmf" ContentType="image/x-wmf"/>
  <Override PartName="/ppt/media/image55.jpeg" ContentType="image/jpeg"/>
  <Override PartName="/ppt/media/image54.jpeg" ContentType="image/jpeg"/>
  <Override PartName="/ppt/media/image53.jpeg" ContentType="image/jpeg"/>
  <Override PartName="/ppt/media/image50.wmf" ContentType="image/x-wmf"/>
  <Override PartName="/ppt/media/image43.jpeg" ContentType="image/jpeg"/>
  <Override PartName="/ppt/media/image44.wmf" ContentType="image/x-wmf"/>
  <Override PartName="/ppt/media/image42.jpeg" ContentType="image/jpeg"/>
  <Override PartName="/ppt/media/image41.png" ContentType="image/png"/>
  <Override PartName="/ppt/media/image40.png" ContentType="image/png"/>
  <Override PartName="/ppt/media/image38.wmf" ContentType="image/x-wmf"/>
  <Override PartName="/ppt/media/image37.wmf" ContentType="image/x-wmf"/>
  <Override PartName="/ppt/media/image88.jpeg" ContentType="image/jpeg"/>
  <Override PartName="/ppt/media/image30.wmf" ContentType="image/x-wmf"/>
  <Override PartName="/ppt/media/image39.jpeg" ContentType="image/jpeg"/>
  <Override PartName="/ppt/media/image8.jpeg" ContentType="image/jpeg"/>
  <Override PartName="/ppt/media/image91.png" ContentType="image/png"/>
  <Override PartName="/ppt/media/image49.wmf" ContentType="image/x-wmf"/>
  <Override PartName="/ppt/media/image12.wmf" ContentType="image/x-wmf"/>
  <Override PartName="/ppt/media/image48.wmf" ContentType="image/x-wmf"/>
  <Override PartName="/ppt/media/image11.wmf" ContentType="image/x-wmf"/>
  <Override PartName="/ppt/media/image76.jpeg" ContentType="image/jpeg"/>
  <Override PartName="/ppt/media/image7.png" ContentType="image/png"/>
  <Override PartName="/ppt/media/image62.jpeg" ContentType="image/jpeg"/>
  <Override PartName="/ppt/media/image79.jpeg" ContentType="image/jpeg"/>
  <Override PartName="/ppt/media/image15.wmf" ContentType="image/x-wmf"/>
  <Override PartName="/ppt/media/image3.wmf" ContentType="image/x-wmf"/>
  <Override PartName="/ppt/media/image46.jpeg" ContentType="image/jpeg"/>
  <Override PartName="/ppt/media/image45.jpeg" ContentType="image/jpeg"/>
  <Override PartName="/ppt/media/image72.jpeg" ContentType="image/jpeg"/>
  <Override PartName="/ppt/media/image20.wmf" ContentType="image/x-wmf"/>
  <Override PartName="/ppt/media/image57.wmf" ContentType="image/x-wmf"/>
  <Override PartName="/ppt/media/image24.wmf" ContentType="image/x-wmf"/>
  <Override PartName="/ppt/media/image85.jpeg" ContentType="image/jpeg"/>
  <Override PartName="/ppt/media/image59.wmf" ContentType="image/x-wmf"/>
  <Override PartName="/ppt/media/image89.wmf" ContentType="image/x-wmf"/>
  <Override PartName="/ppt/media/image75.jpeg" ContentType="image/jpeg"/>
  <Override PartName="/ppt/media/image19.wmf" ContentType="image/x-wmf"/>
  <Override PartName="/ppt/media/image26.wmf" ContentType="image/x-wmf"/>
  <Override PartName="/ppt/media/image67.jpeg" ContentType="image/jpeg"/>
  <Override PartName="/ppt/media/image87.jpeg" ContentType="image/jpeg"/>
  <Override PartName="/ppt/media/image28.wmf" ContentType="image/x-wmf"/>
  <Override PartName="/ppt/media/image36.jpeg" ContentType="image/jpeg"/>
  <Override PartName="/ppt/media/image22.wmf" ContentType="image/x-wmf"/>
  <Override PartName="/ppt/media/image80.jpeg" ContentType="image/jpeg"/>
  <Override PartName="/ppt/media/image74.jpeg" ContentType="image/jpeg"/>
  <Override PartName="/ppt/media/image18.wmf" ContentType="image/x-wmf"/>
  <Override PartName="/ppt/media/image6.wmf" ContentType="image/x-wmf"/>
  <Override PartName="/ppt/media/image63.wmf" ContentType="image/x-wmf"/>
  <Override PartName="/ppt/media/image84.jpeg" ContentType="image/jpeg"/>
  <Override PartName="/ppt/media/image69.wmf" ContentType="image/x-wmf"/>
  <Override PartName="/ppt/media/image14.wmf" ContentType="image/x-wmf"/>
  <Override PartName="/ppt/media/image2.wmf" ContentType="image/x-wmf"/>
  <Override PartName="/ppt/media/image81.jpeg" ContentType="image/jpeg"/>
  <Override PartName="/ppt/media/image32.wmf" ContentType="image/x-wmf"/>
  <Override PartName="/ppt/media/image73.jpeg" ContentType="image/jpeg"/>
  <Override PartName="/ppt/media/image21.gif" ContentType="image/gif"/>
  <Override PartName="/ppt/media/image68.jpeg" ContentType="image/jpeg"/>
  <Override PartName="/ppt/media/image29.wmf" ContentType="image/x-wmf"/>
  <Override PartName="/ppt/media/image71.jpeg" ContentType="image/jpeg"/>
  <Override PartName="/ppt/media/image60.jpeg" ContentType="image/jpeg"/>
  <Override PartName="/ppt/media/image77.jpeg" ContentType="image/jpeg"/>
  <Override PartName="/ppt/media/image70.png" ContentType="image/png"/>
  <Override PartName="/ppt/media/image64.jpeg" ContentType="image/jpeg"/>
  <Override PartName="/ppt/media/image61.jpeg" ContentType="image/jpeg"/>
  <Override PartName="/ppt/media/image78.jpeg" ContentType="image/jpeg"/>
  <Override PartName="/ppt/media/image31.wmf" ContentType="image/x-wmf"/>
  <Override PartName="/ppt/media/image65.jpeg" ContentType="image/jpeg"/>
  <Override PartName="/ppt/media/image9.jpeg" ContentType="image/jpeg"/>
  <Override PartName="/ppt/media/image51.wmf" ContentType="image/x-wmf"/>
  <Override PartName="/ppt/media/image23.jpeg" ContentType="image/jpeg"/>
  <Override PartName="/ppt/media/image82.jpeg" ContentType="image/jpeg"/>
  <Override PartName="/ppt/media/image52.wmf" ContentType="image/x-wmf"/>
  <Override PartName="/ppt/media/image83.jpeg" ContentType="image/jpeg"/>
  <Override PartName="/ppt/media/image33.wmf" ContentType="image/x-wmf"/>
  <Override PartName="/ppt/media/image16.wmf" ContentType="image/x-wmf"/>
  <Override PartName="/ppt/media/image66.jpeg" ContentType="image/jpeg"/>
  <Override PartName="/ppt/media/image4.wmf" ContentType="image/x-wmf"/>
  <Override PartName="/ppt/media/image1.wmf" ContentType="image/x-wmf"/>
  <Override PartName="/ppt/media/image13.wmf" ContentType="image/x-wmf"/>
  <Override PartName="/ppt/media/image10.jpeg" ContentType="image/jpeg"/>
  <Override PartName="/ppt/media/image86.jpeg" ContentType="image/jpeg"/>
  <Override PartName="/ppt/media/image27.jpeg" ContentType="image/jpeg"/>
  <Override PartName="/ppt/media/image17.wmf" ContentType="image/x-wmf"/>
  <Override PartName="/ppt/media/image5.wmf" ContentType="image/x-wmf"/>
  <Override PartName="/ppt/media/image35.wmf" ContentType="image/x-wmf"/>
  <Override PartName="/ppt/media/image47.jpeg" ContentType="image/jpeg"/>
  <Override PartName="/ppt/media/image25.wmf" ContentType="image/x-wmf"/>
  <Override PartName="/ppt/media/image9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C115B-7313-4AF5-9369-D0059DDF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0F62E-DC48-42F2-BB1B-09B6E9F2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338B8-657B-4789-BC43-CD4D6BF6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71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9864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43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71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9864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4EC10-F962-4FFD-8516-60EC804C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C7866-675A-43E5-B070-E461F154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3883D-2C58-4471-8B34-9C2D8593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C10E8-9448-417F-B461-C777E867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A689F-A903-4EAB-A9FB-D5BF7B93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E4925-67DA-45E1-B267-7620E723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77914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1B641-8146-428F-99D8-8FCF8751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45B1D-C548-443F-9C00-B772831B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539B4-59D2-4CB5-BEEE-2FE7F37A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71BC0-75DD-4A6A-91AD-CB201E18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F9A83-5AE8-4FC9-9484-F525BF04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0E342-D1BF-4846-9A9B-AA736FEE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C6A72-8018-43E0-860A-3753D4AF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771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9864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43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771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9864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9ACFB-03E0-41C7-A641-3BD82499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25E73-1D3B-493A-ADC7-FCD0D4E0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ECEA8-3C1B-4860-8C4C-060CAABB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97C61-A7B9-4A6C-BD6F-8F643F41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77914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55144-382F-44A8-BA15-493BD033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44175-65F6-4F40-BB94-A86E842F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CA73A-7A23-446B-95F4-E5690156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CDF65-0FB3-47DA-8F77-38BE5C52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28160" cy="6858000"/>
            <a:chOff x="0" y="0"/>
            <a:chExt cx="912816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04800" y="1409760"/>
              <a:ext cx="8523360" cy="76320"/>
              <a:chOff x="604800" y="1409760"/>
              <a:chExt cx="8523360" cy="76320"/>
            </a:xfrm>
          </p:grpSpPr>
          <p:sp>
            <p:nvSpPr>
              <p:cNvPr id="3" name=""/>
              <p:cNvSpPr/>
              <p:nvPr/>
            </p:nvSpPr>
            <p:spPr>
              <a:xfrm>
                <a:off x="604800" y="148608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04800" y="140976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0766-1719-4112-A837-56327F09BE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9206-35BA-4815-AA54-8EA39AECB62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9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80F3-39F8-4D95-82D1-DC025A1AF8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E176-6B5B-4314-B32C-F4C8815ECDB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28800" y="949320"/>
            <a:ext cx="6324480" cy="5908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228600"/>
            <a:ext cx="8153280" cy="2059920"/>
          </a:xfrm>
          <a:prstGeom prst="rect">
            <a:avLst/>
          </a:prstGeom>
          <a:solidFill>
            <a:srgbClr val="99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993300"/>
                </a:solidFill>
                <a:latin typeface="Times New Roman"/>
              </a:rPr>
              <a:t>la escuela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60FE4D-146B-4498-8417-28C171E1F871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182520" y="-2057400"/>
            <a:ext cx="9326520" cy="11430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80880" y="0"/>
            <a:ext cx="8229600" cy="1708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Los elásticos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62164B-4B71-4E2F-8ABC-A4A183F4E6DB}" type="datetime1">
              <a:rPr lang="en-US"/>
              <a:t>07/30/26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2257560" y="0"/>
          <a:ext cx="504648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7560" y="0"/>
                    <a:ext cx="504648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001295-9A89-49EF-9F3F-9EB0A805CC47}" type="datetime1">
              <a:rPr lang="en-US"/>
              <a:t>07/30/26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685800" y="457200"/>
          <a:ext cx="8229600" cy="43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"/>
                    <a:ext cx="822960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C4AC25-1D39-4B0E-9284-EC217520DF3F}" type="datetime1">
              <a:rPr lang="en-US"/>
              <a:t>07/30/26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609480" y="182520"/>
          <a:ext cx="8001000" cy="617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520"/>
                    <a:ext cx="8001000" cy="61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4ACC29-3B2D-44AA-A62F-C09D76F1FFF3}" type="datetime1">
              <a:rPr lang="en-US"/>
              <a:t>07/30/26</a:t>
            </a:fld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533520" y="0"/>
          <a:ext cx="31604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31604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47D51F-4C66-4774-8C8F-90F099FCA9AB}" type="datetime1">
              <a:rPr lang="en-US"/>
              <a:t>07/30/26</a:t>
            </a:fld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685800" y="990720"/>
          <a:ext cx="7848720" cy="52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0720"/>
                    <a:ext cx="7848720" cy="52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A4D18E-F9D4-4EA5-AA82-4E9AFC2BF359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95280" y="2090880"/>
            <a:ext cx="6553440" cy="4767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228600"/>
            <a:ext cx="883908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goma de borrar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F7E764-D2A2-4032-9D3D-D251E136815F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3352680"/>
            <a:ext cx="8381880" cy="2895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143000" y="228600"/>
            <a:ext cx="7010280" cy="225756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0000"/>
                </a:solidFill>
                <a:latin typeface="Times New Roman"/>
              </a:rPr>
              <a:t>la regla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20899B-7B56-472C-AD91-4E3B0D89E289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71600" y="1849320"/>
            <a:ext cx="6248520" cy="5008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9480" y="304920"/>
            <a:ext cx="716292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el sacapunta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E0BBD6-2C20-4DAB-AECB-A670CD290DB1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11280" y="1981080"/>
            <a:ext cx="4821480" cy="4876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14400" y="0"/>
            <a:ext cx="7391520" cy="1877040"/>
          </a:xfrm>
          <a:prstGeom prst="rect">
            <a:avLst/>
          </a:prstGeom>
          <a:solidFill>
            <a:srgbClr val="99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Times New Roman"/>
              </a:rPr>
              <a:t>las tijeras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AD61D7-FA70-466E-8570-7B7437B9DA75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38224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304920"/>
            <a:ext cx="8839080" cy="1708920"/>
          </a:xfrm>
          <a:prstGeom prst="rect">
            <a:avLst/>
          </a:prstGeom>
          <a:solidFill>
            <a:srgbClr val="99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3366"/>
                </a:solidFill>
                <a:latin typeface="Times New Roman"/>
              </a:rPr>
              <a:t>la grapadora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A089E1-1EF1-4624-8041-118606AFE7E8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5025960" cy="5867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4920" y="304920"/>
            <a:ext cx="8458200" cy="1557000"/>
          </a:xfrm>
          <a:prstGeom prst="rect">
            <a:avLst/>
          </a:prstGeom>
          <a:solidFill>
            <a:srgbClr val="99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Times New Roman"/>
              </a:rPr>
              <a:t>los cuaderno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873941-57EE-4D78-9F8D-4741D80A5FA1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6782040" cy="5651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304920"/>
            <a:ext cx="8610480" cy="14346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la cinta adhesiva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9B8053-A3CE-4990-80F4-89DCA0320DAE}" type="datetime1">
              <a:rPr lang="en-US"/>
              <a:t>07/30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324840" cy="5245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80880" y="304920"/>
            <a:ext cx="8077320" cy="1708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la campana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17795E-26B4-4C2C-A24B-FDD035C418BC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086600" cy="5130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57200" y="228600"/>
            <a:ext cx="7467480" cy="170892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el pupitre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DE4992-D20E-410F-80A5-EFCFACD22689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38280" y="1492200"/>
            <a:ext cx="4908600" cy="5365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80880" y="304920"/>
            <a:ext cx="8534520" cy="11912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Las cosas para la clas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3BDAF1-AEF5-44FF-A7C6-0E39EAEC6E1A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610480" cy="5472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28600" y="457200"/>
            <a:ext cx="8763120" cy="1312920"/>
          </a:xfrm>
          <a:prstGeom prst="rect">
            <a:avLst/>
          </a:prstGeom>
          <a:solidFill>
            <a:srgbClr val="ff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el estante de libro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76F78C-D8F7-4949-928A-0DC32A5A5246}" type="datetime1">
              <a:rPr lang="en-US"/>
              <a:t>07/30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5334120"/>
            <a:ext cx="6553080" cy="119124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la computadora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5943600" cy="466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355FFF-A18E-4ED2-9112-B192C5ADAD19}" type="datetime1">
              <a:rPr lang="en-US"/>
              <a:t>07/30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00200" y="4251240"/>
            <a:ext cx="7010280" cy="25318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el monitor/la pantalla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362320" y="-380880"/>
            <a:ext cx="4010040" cy="47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782001-B637-4E01-B016-B70BC2E570B9}" type="datetime1">
              <a:rPr lang="en-US"/>
              <a:t>07/30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0880" y="5073480"/>
            <a:ext cx="8382240" cy="1557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el teclado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826080" cy="47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AA8F9C-9676-4C0F-92EC-5A68E7264F75}" type="datetime1">
              <a:rPr lang="en-US"/>
              <a:t>07/30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0880" y="5073480"/>
            <a:ext cx="8382240" cy="1557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la impresor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705720" cy="414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2ADD37-1EC3-4650-84C4-94252FCCC1B2}" type="datetime1">
              <a:rPr lang="en-US"/>
              <a:t>07/30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5073480"/>
            <a:ext cx="8382240" cy="1557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el disquet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876560" cy="457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8D8224-C9B7-4493-ACDC-22AAC9C2BB02}" type="datetime1">
              <a:rPr lang="en-US"/>
              <a:t>07/30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181480" cy="4759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362320" y="5181480"/>
            <a:ext cx="3962160" cy="119124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l ratón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105520" y="1599840"/>
            <a:ext cx="914400" cy="3886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AB693F-1845-41DB-BC20-8D813F4801A7}" type="datetime1">
              <a:rPr lang="en-US"/>
              <a:t>07/30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181480" cy="4759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5562720"/>
            <a:ext cx="8839080" cy="9169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a afombrilla para el rató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4572000" y="3429000"/>
            <a:ext cx="457200" cy="2286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065F55-05A3-4DA5-8C5B-A7F9E9CA6B42}" type="datetime1">
              <a:rPr lang="en-US"/>
              <a:t>07/30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5073480"/>
            <a:ext cx="8382240" cy="1557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la tecl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6858000" cy="453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354D24-9048-4553-A2FC-729A69F92E28}" type="datetime1">
              <a:rPr lang="en-US"/>
              <a:t>07/30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245120" y="1160640"/>
            <a:ext cx="4898880" cy="5697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28600" y="304920"/>
            <a:ext cx="5181480" cy="131292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a mochilla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5C6BFF-2186-4D7A-97B8-780988248642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0" y="2514600"/>
            <a:ext cx="5715000" cy="3914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3880" y="152280"/>
            <a:ext cx="7010640" cy="1877040"/>
          </a:xfrm>
          <a:prstGeom prst="rect">
            <a:avLst/>
          </a:prstGeom>
          <a:solidFill>
            <a:srgbClr val="ffff00"/>
          </a:solidFill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33cc"/>
                </a:solidFill>
                <a:latin typeface="Times New Roman"/>
              </a:rPr>
              <a:t>la pizarra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202173-AEBC-4875-AD13-1D8CB7759579}" type="datetime1">
              <a:rPr lang="en-US"/>
              <a:t>07/30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763120" cy="5494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62120" y="380880"/>
            <a:ext cx="7238880" cy="131292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a pantalla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57200"/>
            <a:ext cx="2209680" cy="1981080"/>
          </a:xfrm>
          <a:custGeom>
            <a:avLst/>
            <a:gdLst>
              <a:gd name="textAreaLeft" fmla="*/ 352800 w 2209680"/>
              <a:gd name="textAreaRight" fmla="*/ 1588320 w 2209680"/>
              <a:gd name="textAreaTop" fmla="*/ 265320 h 1981080"/>
              <a:gd name="textAreaBottom" fmla="*/ 171576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902" hR="21600" stAng="10800000" swAng="5400000"/>
                <a:lnTo>
                  <a:pt x="12076" y="0"/>
                </a:lnTo>
                <a:arcTo wR="6902" hR="21600" stAng="-5400000" swAng="2526412"/>
                <a:lnTo>
                  <a:pt x="21205" y="14400"/>
                </a:lnTo>
                <a:lnTo>
                  <a:pt x="16391" y="21600"/>
                </a:lnTo>
                <a:lnTo>
                  <a:pt x="10787" y="14400"/>
                </a:lnTo>
                <a:lnTo>
                  <a:pt x="13409" y="14400"/>
                </a:lnTo>
                <a:arcTo wR="6902" hR="21600" stAng="-2873588" swAng="-2084748"/>
                <a:lnTo>
                  <a:pt x="9489" y="1575"/>
                </a:lnTo>
                <a:arcTo wR="6902" hR="21600" stAng="-5841664" swAng="-4958336"/>
                <a:close/>
              </a:path>
              <a:path fill="darkenLess" w="21600" h="21600">
                <a:moveTo>
                  <a:pt x="0" y="21600"/>
                </a:moveTo>
                <a:arcTo wR="6902" hR="21600" stAng="10800000" swAng="5400000"/>
                <a:lnTo>
                  <a:pt x="6902" y="0"/>
                </a:lnTo>
                <a:arcTo wR="6902" hR="21600" stAng="-5400000" swAng="441664"/>
                <a:lnTo>
                  <a:pt x="9489" y="1575"/>
                </a:lnTo>
                <a:arcTo wR="6902" hR="21600" stAng="-5841664" swAng="-4958336"/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9AC75D-56A8-4ECC-8FD7-47F882C95769}" type="datetime1">
              <a:rPr lang="en-US"/>
              <a:t>07/30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809880" y="1346040"/>
            <a:ext cx="4910400" cy="5511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228600"/>
            <a:ext cx="3581280" cy="3323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66"/>
                </a:solidFill>
                <a:latin typeface="Times New Roman"/>
              </a:rPr>
              <a:t>el globo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491FB2-A47D-4A44-8342-3C2C36898985}" type="datetime1">
              <a:rPr lang="en-US"/>
              <a:t>07/30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060720" cy="6095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352680" y="609480"/>
            <a:ext cx="5486400" cy="2753640"/>
          </a:xfrm>
          <a:prstGeom prst="rect">
            <a:avLst/>
          </a:prstGeom>
          <a:solidFill>
            <a:srgbClr val="ffcc00"/>
          </a:solidFill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El pegamento</a:t>
            </a:r>
            <a:r>
              <a:rPr b="1" lang="en-US" sz="10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D7421969-3990-4FA3-8B77-0DB7717ADDD2}" type="datetime1">
              <a:rPr lang="en-US"/>
              <a:t>07/30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705360" cy="5730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57200" y="380880"/>
            <a:ext cx="8229600" cy="18770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99"/>
                </a:solidFill>
                <a:latin typeface="Times New Roman"/>
              </a:rPr>
              <a:t>las sillas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C301C2-A509-422F-968D-9969EA2444B5}" type="datetime1">
              <a:rPr lang="en-US"/>
              <a:t>07/30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105520" cy="5105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0880" y="0"/>
            <a:ext cx="8305920" cy="2257560"/>
          </a:xfrm>
          <a:prstGeom prst="rect">
            <a:avLst/>
          </a:prstGeom>
          <a:solidFill>
            <a:srgbClr val="99ccff"/>
          </a:solidFill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0000"/>
                </a:solidFill>
                <a:latin typeface="Times New Roman"/>
              </a:rPr>
              <a:t>el reloj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3E7917-0CE1-4C89-9516-59E522B717BF}" type="datetime1">
              <a:rPr lang="en-US"/>
              <a:t>07/30/26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-838080" y="-285840"/>
            <a:ext cx="10362960" cy="7772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33520" y="4572000"/>
            <a:ext cx="8305560" cy="1557000"/>
          </a:xfrm>
          <a:prstGeom prst="rect">
            <a:avLst/>
          </a:prstGeom>
          <a:solidFill>
            <a:srgbClr val="99ccff"/>
          </a:solidFill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La calculador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3027F7-63C8-44E4-B829-12AF4E38B0F3}" type="datetime1">
              <a:rPr lang="en-US"/>
              <a:t>07/30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533520" y="0"/>
          <a:ext cx="31604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31604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4038480" y="533520"/>
            <a:ext cx="4267440" cy="3020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Times New Roman"/>
              </a:rPr>
              <a:t>el compá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71635A-BAA3-4101-B1B5-B2E6DEC6D780}" type="datetime1">
              <a:rPr lang="en-US"/>
              <a:t>07/30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90720" y="380880"/>
            <a:ext cx="8153280" cy="2059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el mapa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312A7E-1E29-4629-8B4C-AA5B6177B05F}" type="datetime1">
              <a:rPr lang="en-US"/>
              <a:t>07/30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5076720" cy="6248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0"/>
            <a:ext cx="8915400" cy="1708920"/>
          </a:xfrm>
          <a:prstGeom prst="rect">
            <a:avLst/>
          </a:prstGeom>
          <a:solidFill>
            <a:srgbClr val="ffcc66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0000"/>
                </a:solidFill>
                <a:latin typeface="Times New Roman"/>
              </a:rPr>
              <a:t>la ventana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78C254-D667-429B-88BB-B4689A91C774}" type="datetime1">
              <a:rPr lang="en-US"/>
              <a:t>07/30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859280" cy="7315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80880" y="304920"/>
            <a:ext cx="8153640" cy="277524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Escriban a la pizarra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BF5108-166D-4A15-9B9C-547E4208A5D8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9144000" cy="3575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71600" y="228600"/>
            <a:ext cx="6553080" cy="2471040"/>
          </a:xfrm>
          <a:prstGeom prst="rect">
            <a:avLst/>
          </a:prstGeom>
          <a:solidFill>
            <a:srgbClr val="ffcc6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ff3300"/>
                </a:solidFill>
                <a:latin typeface="Times New Roman"/>
              </a:rPr>
              <a:t>el libro</a:t>
            </a:r>
            <a:endParaRPr b="0" lang="en-US" sz="1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F27A95-B8B6-4B39-885F-F1C6FA03CF37}" type="datetime1">
              <a:rPr lang="en-US"/>
              <a:t>07/30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486400" y="762120"/>
            <a:ext cx="3657600" cy="42382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66"/>
                </a:solidFill>
                <a:latin typeface="Times New Roman"/>
              </a:rPr>
              <a:t>Levanten</a:t>
            </a:r>
            <a:r>
              <a:rPr b="1" lang="en-US" sz="9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003366"/>
                </a:solidFill>
                <a:latin typeface="Times New Roman"/>
              </a:rPr>
              <a:t>las manos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5181480" cy="4726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0A0682-ECDA-4E1D-8E0C-1C993FB8135F}" type="datetime1">
              <a:rPr lang="en-US"/>
              <a:t>07/30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14400" y="4525920"/>
            <a:ext cx="7162920" cy="2059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Times New Roman"/>
              </a:rPr>
              <a:t>Escuchen.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371C2A-47EA-4EE5-A320-7F0FF1AC688A}" type="datetime1">
              <a:rPr lang="en-US"/>
              <a:t>07/30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315200" cy="48736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ff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scriban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FE0AD2-C045-46C1-9BF0-4034D8B0D6F5}" type="datetime1">
              <a:rPr lang="en-US"/>
              <a:t>07/30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2092320"/>
            <a:ext cx="9144000" cy="4765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362320" y="228600"/>
            <a:ext cx="4952880" cy="2257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3366"/>
                </a:solidFill>
                <a:latin typeface="Times New Roman"/>
              </a:rPr>
              <a:t>Lean.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A1A95B-B60A-4C1E-A2B5-DD6CD95D1FE5}" type="datetime1">
              <a:rPr lang="en-US"/>
              <a:t>07/30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781680" cy="5425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09480" y="228600"/>
            <a:ext cx="8001000" cy="17089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los autobuses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96979FC3-D4EF-4957-BF85-8F7D372B0783}" type="datetime1">
              <a:rPr lang="en-US"/>
              <a:t>07/30/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924680" cy="6159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4920" y="228600"/>
            <a:ext cx="8534160" cy="13129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Puedo ir al cajón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20F854A2-3616-424E-97D0-5EBA4643C5DF}" type="datetime1">
              <a:rPr lang="en-US"/>
              <a:t>07/30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80880" y="5029200"/>
            <a:ext cx="8458200" cy="1557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la clase de art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CBF90B-7C37-4D3F-BE4B-796E6C169586}" type="datetime1">
              <a:rPr lang="en-US"/>
              <a:t>07/30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28600" y="5334120"/>
            <a:ext cx="8915400" cy="109944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la clase de francé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464DDE-90A3-4A78-8559-354DB85159CE}" type="datetime1">
              <a:rPr lang="en-US"/>
              <a:t>07/30/26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-228600" y="-17136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5257800"/>
            <a:ext cx="8915400" cy="1312920"/>
          </a:xfrm>
          <a:prstGeom prst="rect">
            <a:avLst/>
          </a:prstGeom>
          <a:solidFill>
            <a:srgbClr val="ffcc00"/>
          </a:solidFill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a clase de química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F49AF3-A098-4D01-804F-E8D4379146BF}" type="datetime1">
              <a:rPr lang="en-US"/>
              <a:t>07/30/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28600" y="1333440"/>
            <a:ext cx="8001000" cy="57801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85800" y="380880"/>
            <a:ext cx="8001000" cy="7642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bajen con la computador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51AB0810-D748-4350-9943-D95D11FC0239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52480" y="2222640"/>
            <a:ext cx="6019920" cy="4635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4920" y="380880"/>
            <a:ext cx="8610480" cy="13129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99"/>
                </a:solidFill>
                <a:latin typeface="Times New Roman"/>
              </a:rPr>
              <a:t>Los creyone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3BABB1-A3C7-4A00-8BAA-504AED17BD2F}" type="datetime1">
              <a:rPr lang="en-US"/>
              <a:t>07/30/26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733920" y="1701720"/>
            <a:ext cx="2127240" cy="5156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134040" y="2057400"/>
            <a:ext cx="2559240" cy="4191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-304920" y="2057400"/>
            <a:ext cx="4071960" cy="4267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62120" y="228600"/>
            <a:ext cx="7772400" cy="109944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¡Rápido! ¡Apúrense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6C71CD5F-7D9D-4B36-8003-A2E2A8193A4E}" type="datetime1">
              <a:rPr lang="en-US"/>
              <a:t>07/30/26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359680" cy="53136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04920" y="380880"/>
            <a:ext cx="8534160" cy="825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aquen apuntes en el cuaderno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AF2A310B-C132-41D1-A7C8-D029793FDA2F}" type="datetime1">
              <a:rPr lang="en-US"/>
              <a:t>07/30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8600" y="5638680"/>
            <a:ext cx="8686800" cy="916920"/>
          </a:xfrm>
          <a:prstGeom prst="rect">
            <a:avLst/>
          </a:prstGeom>
          <a:solidFill>
            <a:srgbClr val="6600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la clase de educación física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560855-7ACA-40AB-9AE9-17D33DDE9577}" type="datetime1">
              <a:rPr lang="en-US"/>
              <a:t>07/30/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-380880" y="-28584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0" y="5105520"/>
            <a:ext cx="8763120" cy="1708920"/>
          </a:xfrm>
          <a:prstGeom prst="rect">
            <a:avLst/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la biblioteca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4EAE68-D827-46DB-8E76-55061AF7CF25}" type="datetime1">
              <a:rPr lang="en-US"/>
              <a:t>07/30/26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80880" y="4876920"/>
            <a:ext cx="8534520" cy="1312920"/>
          </a:xfrm>
          <a:prstGeom prst="rect">
            <a:avLst/>
          </a:prstGeom>
          <a:solidFill>
            <a:srgbClr val="6600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a clase de música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BE2D9E-2CB7-417F-8D5A-F6FAA8F98696}" type="datetime1">
              <a:rPr lang="en-US"/>
              <a:t>07/30/26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5670720" cy="69278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04920" y="380880"/>
            <a:ext cx="8610480" cy="13129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99"/>
                </a:solidFill>
                <a:latin typeface="Times New Roman"/>
              </a:rPr>
              <a:t>los lapices de cera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3E6AC17F-DAB0-4645-85A8-BFB01B86794F}" type="datetime1">
              <a:rPr lang="en-US"/>
              <a:t>07/30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8077320" cy="60274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57200" y="228600"/>
            <a:ext cx="8305920" cy="1708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3366"/>
                </a:solidFill>
                <a:latin typeface="Times New Roman"/>
              </a:rPr>
              <a:t>la profesora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5FDD24C6-B790-485D-B5E1-3FE20990837D}" type="datetime1">
              <a:rPr lang="en-US"/>
              <a:t>07/30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6477120" cy="62434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33520" y="380880"/>
            <a:ext cx="861048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99"/>
                </a:solidFill>
                <a:latin typeface="Times New Roman"/>
              </a:rPr>
              <a:t>el sujetapapel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1905120"/>
            <a:ext cx="2133720" cy="3657600"/>
          </a:xfrm>
          <a:custGeom>
            <a:avLst/>
            <a:gdLst>
              <a:gd name="textAreaLeft" fmla="*/ 612360 w 2133720"/>
              <a:gd name="textAreaRight" fmla="*/ 1827720 w 2133720"/>
              <a:gd name="textAreaTop" fmla="*/ 2106360 h 3657600"/>
              <a:gd name="textAreaBottom" fmla="*/ 313272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355AF72E-61D5-417B-8002-3D755A642031}" type="datetime1">
              <a:rPr lang="en-US"/>
              <a:t>07/30/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4920" y="304920"/>
            <a:ext cx="4267080" cy="2059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99"/>
                </a:solidFill>
                <a:latin typeface="Times New Roman"/>
              </a:rPr>
              <a:t>la luz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840120" y="-304920"/>
            <a:ext cx="5303880" cy="716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C7DC77-3AAF-40E5-98D6-5F993284D54F}" type="datetime1">
              <a:rPr lang="en-US"/>
              <a:t>07/30/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33520" y="4876920"/>
            <a:ext cx="8610480" cy="1708920"/>
          </a:xfrm>
          <a:prstGeom prst="rect">
            <a:avLst/>
          </a:prstGeom>
          <a:solidFill>
            <a:srgbClr val="cc99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3366"/>
                </a:solidFill>
                <a:latin typeface="Times New Roman"/>
              </a:rPr>
              <a:t>la cafetéria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290C5A-BF10-41AF-AF5C-3261D91E527F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2500200"/>
            <a:ext cx="7872480" cy="43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28600" y="304920"/>
            <a:ext cx="8153280" cy="1708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0000"/>
                </a:solidFill>
                <a:latin typeface="Times New Roman"/>
              </a:rPr>
              <a:t>el marcador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046882-1C9B-4C04-A4C0-1DDD40E1788E}" type="datetime1">
              <a:rPr lang="en-US"/>
              <a:t>07/30/2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62120" y="4602240"/>
            <a:ext cx="7467480" cy="2257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3366"/>
                </a:solidFill>
                <a:latin typeface="Times New Roman"/>
              </a:rPr>
              <a:t>el pasillo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6DDE12-231F-4D67-AC3D-660F2CDC522B}" type="datetime1">
              <a:rPr lang="en-US"/>
              <a:t>07/30/26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0"/>
            <a:ext cx="5638680" cy="1434600"/>
          </a:xfrm>
          <a:prstGeom prst="rect">
            <a:avLst/>
          </a:prstGeom>
          <a:solidFill>
            <a:srgbClr val="ff33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la clínica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3809880"/>
            <a:ext cx="5562720" cy="1191240"/>
          </a:xfrm>
          <a:prstGeom prst="rect">
            <a:avLst/>
          </a:prstGeom>
          <a:solidFill>
            <a:srgbClr val="ff33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la enfermera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9F87C2-186D-4578-BAB5-B8627180022A}" type="datetime1">
              <a:rPr lang="en-US"/>
              <a:t>07/30/26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8280" cy="7543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114800" y="380880"/>
            <a:ext cx="4800600" cy="366012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Times New Roman"/>
              </a:rPr>
              <a:t>la puerta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197540-3004-4275-A8BF-C0A97F90D469}" type="datetime1">
              <a:rPr lang="en-US"/>
              <a:t>07/30/26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8280" cy="7543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495680" y="228600"/>
            <a:ext cx="4191120" cy="623808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¡Abran la puerta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6A6810-D1D3-42A9-95FA-D16DA29EA82A}" type="datetime1">
              <a:rPr lang="en-US"/>
              <a:t>07/30/26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8280" cy="7543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495680" y="228600"/>
            <a:ext cx="4191120" cy="521316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¡Cierren la puerta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CB7D09-68AB-47D2-8F8A-14E2FB0DDA00}" type="datetime1">
              <a:rPr lang="en-US"/>
              <a:t>07/30/26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-533520"/>
            <a:ext cx="10744200" cy="78152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28600" y="-228600"/>
            <a:ext cx="9982080" cy="11912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la grabadora de caset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051C53-4CC1-4317-8BFA-7CB57E54FE4F}" type="datetime1">
              <a:rPr lang="en-US"/>
              <a:t>07/30/26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-285840"/>
            <a:ext cx="9524880" cy="71438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236" name=""/>
          <p:cNvSpPr/>
          <p:nvPr/>
        </p:nvSpPr>
        <p:spPr>
          <a:xfrm>
            <a:off x="380880" y="5334120"/>
            <a:ext cx="8915400" cy="1008360"/>
          </a:xfrm>
          <a:prstGeom prst="rect">
            <a:avLst/>
          </a:prstGeom>
          <a:solidFill>
            <a:srgbClr val="6600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El estudiante que duerm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1BFAF5-62E7-47D4-98D5-AD9C6F2BB1EA}" type="datetime1">
              <a:rPr lang="en-US"/>
              <a:t>07/30/2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28600" y="5029200"/>
            <a:ext cx="8686800" cy="155700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la bander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2F53BB-746E-4B5C-9B1F-25EA08AEED44}" type="datetime1">
              <a:rPr lang="en-US"/>
              <a:t>07/30/26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09480" y="5562720"/>
            <a:ext cx="853452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a tabla de bolétin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85D2E2-B669-43FA-8F73-E8AAEE2DEF94}" type="datetime1">
              <a:rPr lang="en-US"/>
              <a:t>07/30/26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-762120" y="0"/>
            <a:ext cx="9906120" cy="74296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80880" y="4724280"/>
            <a:ext cx="8458200" cy="1877040"/>
          </a:xfrm>
          <a:prstGeom prst="rect">
            <a:avLst/>
          </a:prstGeom>
          <a:solidFill>
            <a:srgbClr val="9999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Times New Roman"/>
              </a:rPr>
              <a:t>la basura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C6746A-8ABD-4BD4-85CB-7D2EAD7BE14E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17800" y="-611280"/>
            <a:ext cx="5326200" cy="7469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4920" y="449280"/>
            <a:ext cx="3809880" cy="3782160"/>
          </a:xfrm>
          <a:prstGeom prst="rect">
            <a:avLst/>
          </a:prstGeom>
          <a:solidFill>
            <a:srgbClr val="99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los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lápice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1981080"/>
            <a:ext cx="2514600" cy="838440"/>
          </a:xfrm>
          <a:prstGeom prst="rightArrow">
            <a:avLst>
              <a:gd name="adj1" fmla="val 50000"/>
              <a:gd name="adj2" fmla="val 74979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47C016-B683-4838-A249-55ED424F1209}" type="datetime1">
              <a:rPr lang="en-US"/>
              <a:t>07/30/26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685800" y="457200"/>
          <a:ext cx="8229600" cy="43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"/>
                    <a:ext cx="822960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914400" y="4800600"/>
            <a:ext cx="7696080" cy="17089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cc00"/>
                </a:solidFill>
                <a:latin typeface="Times New Roman"/>
              </a:rPr>
              <a:t>el perforator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2AE582-ABFB-4B7A-95B5-5FCBBDC1A9BE}" type="datetime1">
              <a:rPr lang="en-US"/>
              <a:t>07/30/26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990720" y="762120"/>
            <a:ext cx="761976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epas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DA7AD5-AFDB-46CB-826E-830BCFC5F05D}" type="datetime1">
              <a:rPr lang="en-US"/>
              <a:t>07/30/26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16323C-911B-4E75-A586-14F749EC1A89}" type="datetime1">
              <a:rPr lang="en-US"/>
              <a:t>07/30/26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-762120" y="-228600"/>
            <a:ext cx="10211040" cy="765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F17AE8-30A4-440E-A0C6-EB5E9FE53E96}" type="datetime1">
              <a:rPr lang="en-US"/>
              <a:t>07/30/26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5EAFD6-D759-4C63-9476-D2A6199C4361}" type="datetime1">
              <a:rPr lang="en-US"/>
              <a:t>07/30/26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-1905120" y="0"/>
            <a:ext cx="11049120" cy="828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0A8D4A-B236-4A52-8638-E98DD3BF58F0}" type="datetime1">
              <a:rPr lang="en-US"/>
              <a:t>07/30/26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601200" cy="720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351BAE-8381-4028-99C7-2E8B6546A0DC}" type="datetime1">
              <a:rPr lang="en-US"/>
              <a:t>07/30/2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-457200" y="-343080"/>
            <a:ext cx="10287000" cy="720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2217FA-65AB-4E8A-9A09-C80A4F67BAC0}" type="datetime1">
              <a:rPr lang="en-US"/>
              <a:t>07/30/26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601200" cy="720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84F6BB-196A-44D3-9152-7C49DB7C773A}" type="datetime1">
              <a:rPr lang="en-US"/>
              <a:t>07/30/26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-1295280" y="0"/>
            <a:ext cx="10439280" cy="782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05EB27-9EE3-42BD-96B5-221B3FD44C32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-503280"/>
            <a:ext cx="9524880" cy="7620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5800" y="0"/>
            <a:ext cx="8458200" cy="14346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Times New Roman"/>
              </a:rPr>
              <a:t>la hoja de papel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86600" y="1219320"/>
            <a:ext cx="1371600" cy="2209680"/>
          </a:xfrm>
          <a:prstGeom prst="downArrow">
            <a:avLst>
              <a:gd name="adj1" fmla="val 50000"/>
              <a:gd name="adj2" fmla="val 40276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876920"/>
            <a:ext cx="6629400" cy="19519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66"/>
                </a:solidFill>
                <a:latin typeface="Times New Roman"/>
              </a:rPr>
              <a:t>la pluma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(el bolígrafo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4419720"/>
            <a:ext cx="533520" cy="1218960"/>
          </a:xfrm>
          <a:prstGeom prst="upArrow">
            <a:avLst>
              <a:gd name="adj1" fmla="val 50000"/>
              <a:gd name="adj2" fmla="val 57119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2E95B6-752E-46AC-AC2D-4020FABF5401}" type="datetime1">
              <a:rPr lang="en-US"/>
              <a:t>07/30/26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-609480" y="-457200"/>
            <a:ext cx="10134360" cy="760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F44513-D5B9-4A64-A40F-75E5116A67C5}" type="datetime1">
              <a:rPr lang="en-US"/>
              <a:t>07/30/26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738ED6-A5BF-4735-9C02-5FE196F275B7}" type="datetime1">
              <a:rPr lang="en-US"/>
              <a:t>07/30/26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-609480" y="-571680"/>
            <a:ext cx="10515600" cy="788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A1CE5A-9378-4ED5-85B8-228DFA1AE4B6}" type="datetime1">
              <a:rPr lang="en-US"/>
              <a:t>07/30/26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-380880" y="-17136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0380F4-BDA1-4AF1-BB0C-73F778EEFEDE}" type="datetime1">
              <a:rPr lang="en-US"/>
              <a:t>07/30/26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72A9B0-21CB-45B8-932C-9FCB6DBC5707}" type="datetime1">
              <a:rPr lang="en-US"/>
              <a:t>07/30/26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601200" cy="720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9EB27E-7859-4499-B194-D494598E1CF4}" type="datetime1">
              <a:rPr lang="en-US"/>
              <a:t>07/30/26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-399960"/>
            <a:ext cx="9677520" cy="725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69F302-8FB5-4B43-B66E-C25486B61440}" type="datetime1">
              <a:rPr lang="en-US"/>
              <a:t>07/30/2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-228600" y="-17136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C8E3D3-B59B-4F28-8318-7518360BFB64}" type="datetime1">
              <a:rPr lang="en-US"/>
              <a:t>07/30/26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-380880" y="-28584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AB987A-0738-4938-B496-887817213393}" type="datetime1">
              <a:rPr lang="en-US"/>
              <a:t>07/30/26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4D97DA-694A-4D0C-AECC-2FD095DFC9E6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0" y="0"/>
            <a:ext cx="6858000" cy="18770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66"/>
                </a:solidFill>
                <a:latin typeface="Times New Roman"/>
              </a:rPr>
              <a:t>el elástico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451DE3-3B0F-4C0C-A8E5-9927B859AE6E}" type="datetime1">
              <a:rPr lang="en-US"/>
              <a:t>07/30/26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073E29-CF40-411A-9D8C-C20587329E92}" type="datetime1">
              <a:rPr lang="en-US"/>
              <a:t>07/30/26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465E0B-B1C8-4B42-9633-00D22949B29F}" type="datetime1">
              <a:rPr lang="en-US"/>
              <a:t>07/30/26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564BDB-0E27-4540-8CDF-82D458824310}" type="datetime1">
              <a:rPr lang="en-US"/>
              <a:t>07/30/26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-228600" y="-17136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DC6D8F-6836-46EA-9996-11D039B79ACD}" type="datetime1">
              <a:rPr lang="en-US"/>
              <a:t>07/30/26</a:t>
            </a:fld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000160" y="-304920"/>
            <a:ext cx="5372280" cy="716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8A3787-FC98-410B-BCD6-00E0BAD1A13A}" type="datetime1">
              <a:rPr lang="en-US"/>
              <a:t>07/30/26</a:t>
            </a:fld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B87A96-3EE1-4150-A3EB-8B7683B6F957}" type="datetime1">
              <a:rPr lang="en-US"/>
              <a:t>07/30/26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83B042-BD53-43F4-9640-17AFC5E2816E}" type="datetime1">
              <a:rPr lang="en-US"/>
              <a:t>07/30/2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DC73F7-2283-4A87-92FC-71644C7283E9}" type="datetime1">
              <a:rPr lang="en-US"/>
              <a:t>07/30/26</a:t>
            </a:fld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F0DDD2-6B85-4549-949B-8F2A0698732E}" type="datetime1">
              <a:rPr lang="en-US"/>
              <a:t>07/30/26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-762120" y="0"/>
            <a:ext cx="9906120" cy="742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14EC11-701A-4488-A520-4FCC0B2F4945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0T00:43:03Z</dcterms:created>
  <dc:creator>Newport News</dc:creator>
  <dc:description/>
  <dc:language>en-US</dc:language>
  <cp:lastModifiedBy>mknobbe</cp:lastModifiedBy>
  <dcterms:modified xsi:type="dcterms:W3CDTF">2009-01-05T16:29:07Z</dcterms:modified>
  <cp:revision>60</cp:revision>
  <dc:subject/>
  <dc:title>No Slide Title</dc:title>
</cp:coreProperties>
</file>