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wmf" ContentType="image/x-wmf"/>
  <Override PartName="/ppt/media/image34.jpeg" ContentType="image/jpeg"/>
  <Override PartName="/ppt/media/image56.wmf" ContentType="image/x-wmf"/>
  <Override PartName="/ppt/media/image55.jpeg" ContentType="image/jpeg"/>
  <Override PartName="/ppt/media/image54.jpeg" ContentType="image/jpeg"/>
  <Override PartName="/ppt/media/image53.jpeg" ContentType="image/jpeg"/>
  <Override PartName="/ppt/media/image50.wmf" ContentType="image/x-wmf"/>
  <Override PartName="/ppt/media/image43.jpeg" ContentType="image/jpeg"/>
  <Override PartName="/ppt/media/image44.wmf" ContentType="image/x-wmf"/>
  <Override PartName="/ppt/media/image42.jpeg" ContentType="image/jpeg"/>
  <Override PartName="/ppt/media/image41.png" ContentType="image/png"/>
  <Override PartName="/ppt/media/image40.png" ContentType="image/png"/>
  <Override PartName="/ppt/media/image38.wmf" ContentType="image/x-wmf"/>
  <Override PartName="/ppt/media/image37.wmf" ContentType="image/x-wmf"/>
  <Override PartName="/ppt/media/image88.jpeg" ContentType="image/jpeg"/>
  <Override PartName="/ppt/media/image30.wmf" ContentType="image/x-wmf"/>
  <Override PartName="/ppt/media/image39.jpeg" ContentType="image/jpeg"/>
  <Override PartName="/ppt/media/image8.jpeg" ContentType="image/jpeg"/>
  <Override PartName="/ppt/media/image91.png" ContentType="image/png"/>
  <Override PartName="/ppt/media/image49.wmf" ContentType="image/x-wmf"/>
  <Override PartName="/ppt/media/image12.wmf" ContentType="image/x-wmf"/>
  <Override PartName="/ppt/media/image48.wmf" ContentType="image/x-wmf"/>
  <Override PartName="/ppt/media/image11.wmf" ContentType="image/x-wmf"/>
  <Override PartName="/ppt/media/image76.jpeg" ContentType="image/jpeg"/>
  <Override PartName="/ppt/media/image7.png" ContentType="image/png"/>
  <Override PartName="/ppt/media/image62.jpeg" ContentType="image/jpeg"/>
  <Override PartName="/ppt/media/image79.jpeg" ContentType="image/jpeg"/>
  <Override PartName="/ppt/media/image15.wmf" ContentType="image/x-wmf"/>
  <Override PartName="/ppt/media/image3.wmf" ContentType="image/x-wmf"/>
  <Override PartName="/ppt/media/image46.jpeg" ContentType="image/jpeg"/>
  <Override PartName="/ppt/media/image45.jpeg" ContentType="image/jpeg"/>
  <Override PartName="/ppt/media/image72.jpeg" ContentType="image/jpeg"/>
  <Override PartName="/ppt/media/image20.wmf" ContentType="image/x-wmf"/>
  <Override PartName="/ppt/media/image57.wmf" ContentType="image/x-wmf"/>
  <Override PartName="/ppt/media/image24.wmf" ContentType="image/x-wmf"/>
  <Override PartName="/ppt/media/image85.jpeg" ContentType="image/jpeg"/>
  <Override PartName="/ppt/media/image59.wmf" ContentType="image/x-wmf"/>
  <Override PartName="/ppt/media/image89.wmf" ContentType="image/x-wmf"/>
  <Override PartName="/ppt/media/image75.jpeg" ContentType="image/jpeg"/>
  <Override PartName="/ppt/media/image19.wmf" ContentType="image/x-wmf"/>
  <Override PartName="/ppt/media/image26.wmf" ContentType="image/x-wmf"/>
  <Override PartName="/ppt/media/image67.jpeg" ContentType="image/jpeg"/>
  <Override PartName="/ppt/media/image87.jpeg" ContentType="image/jpeg"/>
  <Override PartName="/ppt/media/image28.wmf" ContentType="image/x-wmf"/>
  <Override PartName="/ppt/media/image36.jpeg" ContentType="image/jpeg"/>
  <Override PartName="/ppt/media/image22.wmf" ContentType="image/x-wmf"/>
  <Override PartName="/ppt/media/image80.jpeg" ContentType="image/jpeg"/>
  <Override PartName="/ppt/media/image74.jpeg" ContentType="image/jpeg"/>
  <Override PartName="/ppt/media/image18.wmf" ContentType="image/x-wmf"/>
  <Override PartName="/ppt/media/image6.wmf" ContentType="image/x-wmf"/>
  <Override PartName="/ppt/media/image63.wmf" ContentType="image/x-wmf"/>
  <Override PartName="/ppt/media/image84.jpeg" ContentType="image/jpeg"/>
  <Override PartName="/ppt/media/image69.wmf" ContentType="image/x-wmf"/>
  <Override PartName="/ppt/media/image14.wmf" ContentType="image/x-wmf"/>
  <Override PartName="/ppt/media/image2.wmf" ContentType="image/x-wmf"/>
  <Override PartName="/ppt/media/image81.jpeg" ContentType="image/jpeg"/>
  <Override PartName="/ppt/media/image32.wmf" ContentType="image/x-wmf"/>
  <Override PartName="/ppt/media/image73.jpeg" ContentType="image/jpeg"/>
  <Override PartName="/ppt/media/image21.gif" ContentType="image/gif"/>
  <Override PartName="/ppt/media/image68.jpeg" ContentType="image/jpeg"/>
  <Override PartName="/ppt/media/image29.wmf" ContentType="image/x-wmf"/>
  <Override PartName="/ppt/media/image71.jpeg" ContentType="image/jpeg"/>
  <Override PartName="/ppt/media/image60.jpeg" ContentType="image/jpeg"/>
  <Override PartName="/ppt/media/image77.jpeg" ContentType="image/jpeg"/>
  <Override PartName="/ppt/media/image70.png" ContentType="image/png"/>
  <Override PartName="/ppt/media/image64.jpeg" ContentType="image/jpeg"/>
  <Override PartName="/ppt/media/image61.jpeg" ContentType="image/jpeg"/>
  <Override PartName="/ppt/media/image78.jpeg" ContentType="image/jpeg"/>
  <Override PartName="/ppt/media/image31.wmf" ContentType="image/x-wmf"/>
  <Override PartName="/ppt/media/image65.jpeg" ContentType="image/jpeg"/>
  <Override PartName="/ppt/media/image9.jpeg" ContentType="image/jpeg"/>
  <Override PartName="/ppt/media/image51.wmf" ContentType="image/x-wmf"/>
  <Override PartName="/ppt/media/image23.jpeg" ContentType="image/jpeg"/>
  <Override PartName="/ppt/media/image82.jpeg" ContentType="image/jpeg"/>
  <Override PartName="/ppt/media/image52.wmf" ContentType="image/x-wmf"/>
  <Override PartName="/ppt/media/image83.jpeg" ContentType="image/jpeg"/>
  <Override PartName="/ppt/media/image33.wmf" ContentType="image/x-wmf"/>
  <Override PartName="/ppt/media/image16.wmf" ContentType="image/x-wmf"/>
  <Override PartName="/ppt/media/image66.jpeg" ContentType="image/jpeg"/>
  <Override PartName="/ppt/media/image4.wmf" ContentType="image/x-wmf"/>
  <Override PartName="/ppt/media/image1.wmf" ContentType="image/x-wmf"/>
  <Override PartName="/ppt/media/image13.wmf" ContentType="image/x-wmf"/>
  <Override PartName="/ppt/media/image10.jpeg" ContentType="image/jpeg"/>
  <Override PartName="/ppt/media/image86.jpeg" ContentType="image/jpeg"/>
  <Override PartName="/ppt/media/image27.jpeg" ContentType="image/jpeg"/>
  <Override PartName="/ppt/media/image17.wmf" ContentType="image/x-wmf"/>
  <Override PartName="/ppt/media/image5.wmf" ContentType="image/x-wmf"/>
  <Override PartName="/ppt/media/image35.wmf" ContentType="image/x-wmf"/>
  <Override PartName="/ppt/media/image47.jpeg" ContentType="image/jpeg"/>
  <Override PartName="/ppt/media/image25.wmf" ContentType="image/x-wmf"/>
  <Override PartName="/ppt/media/image9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1F035-7E5E-416A-B288-E89E972ED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143000" y="396000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76FEF-15F1-4349-9474-11E788BC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2568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7693C-11DB-4270-B36E-504803E3B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7100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9864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14300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77100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9864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D9158-D5F7-45FC-9CE6-5468D5CF8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2B345-F0FB-41AA-A875-6BAE01CAD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CE940C-A5E2-465F-B0E1-BD118EC8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D09D74-A258-4443-9484-52447007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916CAA-857D-40C1-B928-8AB959BF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88DC7-7F4E-46D9-8CED-6EA083D4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77914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934575-D579-4936-8388-EB460926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B0A75-4A0F-47F2-BF58-DA25B9BD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9DB9F-95E7-49F0-AFD4-8E1EE2E7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2568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AD464-28F1-49B3-B253-CB47481B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5E3E29-8ADB-47AF-9211-D5FC393D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43000" y="396000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9CE02-D5D6-4041-B086-93EA63E2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2568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12B0B-FDD2-4B91-A27F-65ABB915F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77100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9864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4300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77100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9864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D2A9BA-0265-4D9D-959B-5C1ACCD7E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628BE-EF0D-4A09-9A2C-2551B5C7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BAC48-BE06-42A5-82BE-CDDF940A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13306-B9F1-4D40-8A87-C6C69087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77914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86D74-429D-41D7-94C2-C3C230AF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DAE3B-B1F0-4D23-B303-5F070312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2568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00C3D-3820-47A1-8B4A-8F1522D2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18E04-8913-48EE-B0B5-6423B237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28160" cy="6858000"/>
            <a:chOff x="0" y="0"/>
            <a:chExt cx="912816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04800" y="1409760"/>
              <a:ext cx="8523360" cy="76320"/>
              <a:chOff x="604800" y="1409760"/>
              <a:chExt cx="8523360" cy="76320"/>
            </a:xfrm>
          </p:grpSpPr>
          <p:sp>
            <p:nvSpPr>
              <p:cNvPr id="3" name=""/>
              <p:cNvSpPr/>
              <p:nvPr/>
            </p:nvSpPr>
            <p:spPr>
              <a:xfrm>
                <a:off x="604800" y="148608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04800" y="140976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03ED-3DAF-4990-A573-A43FE4720C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0BEC-FC61-4267-B350-8DA5F1D378BD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9" name="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3366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5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0EB1-7EC6-455B-99CC-F26562056A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277F-0CA2-4F13-8174-6C53CC6EAE54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96040" algn="ctr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43880" algn="ctr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92080" algn="ctr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9.wmf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828800" y="949320"/>
            <a:ext cx="6324480" cy="5908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57200" y="228600"/>
            <a:ext cx="8153280" cy="2059920"/>
          </a:xfrm>
          <a:prstGeom prst="rect">
            <a:avLst/>
          </a:prstGeom>
          <a:solidFill>
            <a:srgbClr val="99ff3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993300"/>
                </a:solidFill>
                <a:latin typeface="Times New Roman"/>
              </a:rPr>
              <a:t>la escuela</a:t>
            </a:r>
            <a:endParaRPr b="0" lang="en-US" sz="1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7BD3746-26E9-4E36-A47B-DFF9EC42FB1C}" type="datetime1">
              <a:rPr lang="en-US"/>
              <a:t>07/28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182520" y="-2057400"/>
            <a:ext cx="9326520" cy="11430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80880" y="0"/>
            <a:ext cx="8229600" cy="1708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Times New Roman"/>
              </a:rPr>
              <a:t>Los elásticos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32982D-6852-425C-A46B-083F29CAE148}" type="datetime1">
              <a:rPr lang="en-US"/>
              <a:t>07/28/26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5" name=""/>
          <p:cNvGraphicFramePr/>
          <p:nvPr/>
        </p:nvGraphicFramePr>
        <p:xfrm>
          <a:off x="2257560" y="0"/>
          <a:ext cx="5046480" cy="54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7560" y="0"/>
                    <a:ext cx="504648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5B2249-DBDE-4BC0-817A-C15D4FD2F57A}" type="datetime1">
              <a:rPr lang="en-US"/>
              <a:t>07/28/26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7" name=""/>
          <p:cNvGraphicFramePr/>
          <p:nvPr/>
        </p:nvGraphicFramePr>
        <p:xfrm>
          <a:off x="685800" y="457200"/>
          <a:ext cx="8229600" cy="43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"/>
                    <a:ext cx="8229600" cy="43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9B682A-244C-472E-BF67-E7E210736A98}" type="datetime1">
              <a:rPr lang="en-US"/>
              <a:t>07/28/26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"/>
          <p:cNvGraphicFramePr/>
          <p:nvPr/>
        </p:nvGraphicFramePr>
        <p:xfrm>
          <a:off x="609480" y="182520"/>
          <a:ext cx="8001000" cy="617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520"/>
                    <a:ext cx="8001000" cy="617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8E4639-AE8E-49ED-BDF1-519C937CF8D1}" type="datetime1">
              <a:rPr lang="en-US"/>
              <a:t>07/28/26</a:t>
            </a:fld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533520" y="0"/>
          <a:ext cx="31604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0"/>
                    <a:ext cx="31604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640361-D757-4EF2-954D-F3FC46C6A1F5}" type="datetime1">
              <a:rPr lang="en-US"/>
              <a:t>07/28/26</a:t>
            </a:fld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685800" y="990720"/>
          <a:ext cx="7848720" cy="52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90720"/>
                    <a:ext cx="7848720" cy="52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3CF768-7EEE-499F-BA16-8BBACE210565}" type="datetime1">
              <a:rPr lang="en-US"/>
              <a:t>07/28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95280" y="2090880"/>
            <a:ext cx="6553440" cy="4767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228600"/>
            <a:ext cx="8839080" cy="1312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la</a:t>
            </a:r>
            <a:r>
              <a:rPr b="1" lang="en-US" sz="8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goma de borrar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D65E91-FF73-4DB5-9878-3F092423C145}" type="datetime1">
              <a:rPr lang="en-US"/>
              <a:t>07/28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3352680"/>
            <a:ext cx="8381880" cy="2895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143000" y="228600"/>
            <a:ext cx="7010280" cy="225756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000000"/>
                </a:solidFill>
                <a:latin typeface="Times New Roman"/>
              </a:rPr>
              <a:t>la regla</a:t>
            </a:r>
            <a:endParaRPr b="0" lang="en-US" sz="1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C4DA27-17D7-4317-B119-652EAD85D703}" type="datetime1">
              <a:rPr lang="en-US"/>
              <a:t>07/28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371600" y="1849320"/>
            <a:ext cx="6248520" cy="5008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09480" y="304920"/>
            <a:ext cx="7162920" cy="1312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el sacapunta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E0B5669-79F3-44F2-A5AB-2F8069209A80}" type="datetime1">
              <a:rPr lang="en-US"/>
              <a:t>07/28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411280" y="1981080"/>
            <a:ext cx="4821480" cy="4876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914400" y="0"/>
            <a:ext cx="7391520" cy="1877040"/>
          </a:xfrm>
          <a:prstGeom prst="rect">
            <a:avLst/>
          </a:prstGeom>
          <a:solidFill>
            <a:srgbClr val="99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Times New Roman"/>
              </a:rPr>
              <a:t>las tijeras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42C2F1-B49E-4CB9-9C0A-C1E59FD034D2}" type="datetime1">
              <a:rPr lang="en-US"/>
              <a:t>07/28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8382240" cy="3833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304920"/>
            <a:ext cx="8839080" cy="1708920"/>
          </a:xfrm>
          <a:prstGeom prst="rect">
            <a:avLst/>
          </a:prstGeom>
          <a:solidFill>
            <a:srgbClr val="99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3366"/>
                </a:solidFill>
                <a:latin typeface="Times New Roman"/>
              </a:rPr>
              <a:t>la grapadora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C6A4AD-7B87-4E6B-9D5C-D9ECE7FC29E1}" type="datetime1">
              <a:rPr lang="en-US"/>
              <a:t>07/28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5025960" cy="5867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04920" y="304920"/>
            <a:ext cx="8458200" cy="1557000"/>
          </a:xfrm>
          <a:prstGeom prst="rect">
            <a:avLst/>
          </a:prstGeom>
          <a:solidFill>
            <a:srgbClr val="99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Times New Roman"/>
              </a:rPr>
              <a:t>los cuadernos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6AF211-C23E-4E40-8C28-F342A7B18A3D}" type="datetime1">
              <a:rPr lang="en-US"/>
              <a:t>07/28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6782040" cy="5651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04920" y="304920"/>
            <a:ext cx="8610480" cy="14346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la cinta adhesiva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83A8FE-AC1D-44E5-BCA1-E10B580E8955}" type="datetime1">
              <a:rPr lang="en-US"/>
              <a:t>07/28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6324840" cy="52452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80880" y="304920"/>
            <a:ext cx="8077320" cy="1708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Times New Roman"/>
              </a:rPr>
              <a:t>la campana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60C9C93-7375-439A-A2D6-E206BE6F50C3}" type="datetime1">
              <a:rPr lang="en-US"/>
              <a:t>07/28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7086600" cy="5130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57200" y="228600"/>
            <a:ext cx="7467480" cy="1708920"/>
          </a:xfrm>
          <a:prstGeom prst="rect">
            <a:avLst/>
          </a:prstGeom>
          <a:solidFill>
            <a:srgbClr val="ffcc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Times New Roman"/>
              </a:rPr>
              <a:t>el pupitre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59D7E0-5663-43B2-B3A4-A7672F3D2D6C}" type="datetime1">
              <a:rPr lang="en-US"/>
              <a:t>07/28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438280" y="1492200"/>
            <a:ext cx="4908600" cy="53658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80880" y="304920"/>
            <a:ext cx="8534520" cy="11912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Times New Roman"/>
              </a:rPr>
              <a:t>Las cosas para la clas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B40D06-10AA-4575-8284-3D0B31090410}" type="datetime1">
              <a:rPr lang="en-US"/>
              <a:t>07/28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610480" cy="5472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28600" y="457200"/>
            <a:ext cx="8763120" cy="1312920"/>
          </a:xfrm>
          <a:prstGeom prst="rect">
            <a:avLst/>
          </a:prstGeom>
          <a:solidFill>
            <a:srgbClr val="ffcc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el estante de libro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153F80-6828-4D6E-B9F8-6395E0499ED6}" type="datetime1">
              <a:rPr lang="en-US"/>
              <a:t>07/28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43000" y="5334120"/>
            <a:ext cx="6553080" cy="119124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la computadora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23880" y="533520"/>
            <a:ext cx="5943600" cy="4667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FB9672-0933-4E67-97FC-453E832DEFB6}" type="datetime1">
              <a:rPr lang="en-US"/>
              <a:t>07/28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600200" y="4251240"/>
            <a:ext cx="7010280" cy="253188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el monitor/la pantalla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362320" y="-380880"/>
            <a:ext cx="4010040" cy="472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8C6091-7DEC-4CDB-9F58-44711903AC7D}" type="datetime1">
              <a:rPr lang="en-US"/>
              <a:t>07/28/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80880" y="5073480"/>
            <a:ext cx="8382240" cy="15570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el teclado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666880" y="0"/>
            <a:ext cx="3826080" cy="472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E64995-48CC-43B8-9D3A-5136BF766348}" type="datetime1">
              <a:rPr lang="en-US"/>
              <a:t>07/28/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0880" y="5073480"/>
            <a:ext cx="8382240" cy="15570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la impresora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371600" y="304920"/>
            <a:ext cx="6705720" cy="414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ABDAAA-AF7B-4982-8B84-1BB7CD6AA248}" type="datetime1">
              <a:rPr lang="en-US"/>
              <a:t>07/28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0880" y="5073480"/>
            <a:ext cx="8382240" cy="15570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el disquete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4876560" cy="457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4A0452-45B3-4BF1-B89C-FB37D9ECD412}" type="datetime1">
              <a:rPr lang="en-US"/>
              <a:t>07/28/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905120" y="228600"/>
            <a:ext cx="5181480" cy="4759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362320" y="5181480"/>
            <a:ext cx="3962160" cy="119124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el ratón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5105520" y="1599840"/>
            <a:ext cx="914400" cy="3886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AC0F5A-B52E-4030-9585-AEC3A3149A24}" type="datetime1">
              <a:rPr lang="en-US"/>
              <a:t>07/28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05120" y="228600"/>
            <a:ext cx="5181480" cy="47592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5562720"/>
            <a:ext cx="8839080" cy="9169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a afombrilla para el rató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4572000" y="3429000"/>
            <a:ext cx="457200" cy="2286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A71254-C837-4368-828A-20A6919380ED}" type="datetime1">
              <a:rPr lang="en-US"/>
              <a:t>07/28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5073480"/>
            <a:ext cx="8382240" cy="15570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la tecla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6858000" cy="453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FA2B25-B4E6-4359-A8AE-ED9AAE29EAE3}" type="datetime1">
              <a:rPr lang="en-US"/>
              <a:t>07/28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245120" y="1160640"/>
            <a:ext cx="4898880" cy="5697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28600" y="304920"/>
            <a:ext cx="5181480" cy="1312920"/>
          </a:xfrm>
          <a:prstGeom prst="rect">
            <a:avLst/>
          </a:prstGeom>
          <a:solidFill>
            <a:srgbClr val="ffff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la mochilla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A8D5251-E373-40CD-B59A-0DB328259B37}" type="datetime1">
              <a:rPr lang="en-US"/>
              <a:t>07/28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86000" y="2514600"/>
            <a:ext cx="5715000" cy="3914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523880" y="152280"/>
            <a:ext cx="7010640" cy="1877040"/>
          </a:xfrm>
          <a:prstGeom prst="rect">
            <a:avLst/>
          </a:prstGeom>
          <a:solidFill>
            <a:srgbClr val="ffff00"/>
          </a:solidFill>
          <a:ln w="7632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33cc"/>
                </a:solidFill>
                <a:latin typeface="Times New Roman"/>
              </a:rPr>
              <a:t>la pizarra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A8676D-258E-41DC-AE70-1B149B3E6910}" type="datetime1">
              <a:rPr lang="en-US"/>
              <a:t>07/28/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763120" cy="5494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62120" y="380880"/>
            <a:ext cx="7238880" cy="1312920"/>
          </a:xfrm>
          <a:prstGeom prst="rect">
            <a:avLst/>
          </a:prstGeom>
          <a:solidFill>
            <a:srgbClr val="ffff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la pantalla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457200"/>
            <a:ext cx="2209680" cy="1981080"/>
          </a:xfrm>
          <a:custGeom>
            <a:avLst/>
            <a:gdLst>
              <a:gd name="textAreaLeft" fmla="*/ 352800 w 2209680"/>
              <a:gd name="textAreaRight" fmla="*/ 1588320 w 2209680"/>
              <a:gd name="textAreaTop" fmla="*/ 265320 h 1981080"/>
              <a:gd name="textAreaBottom" fmla="*/ 171576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902" hR="21600" stAng="10800000" swAng="5400000"/>
                <a:lnTo>
                  <a:pt x="12076" y="0"/>
                </a:lnTo>
                <a:arcTo wR="6902" hR="21600" stAng="-5400000" swAng="2526412"/>
                <a:lnTo>
                  <a:pt x="21205" y="14400"/>
                </a:lnTo>
                <a:lnTo>
                  <a:pt x="16391" y="21600"/>
                </a:lnTo>
                <a:lnTo>
                  <a:pt x="10787" y="14400"/>
                </a:lnTo>
                <a:lnTo>
                  <a:pt x="13409" y="14400"/>
                </a:lnTo>
                <a:arcTo wR="6902" hR="21600" stAng="-2873588" swAng="-2084748"/>
                <a:lnTo>
                  <a:pt x="9489" y="1575"/>
                </a:lnTo>
                <a:arcTo wR="6902" hR="21600" stAng="-5841664" swAng="-4958336"/>
                <a:close/>
              </a:path>
              <a:path fill="darkenLess" w="21600" h="21600">
                <a:moveTo>
                  <a:pt x="0" y="21600"/>
                </a:moveTo>
                <a:arcTo wR="6902" hR="21600" stAng="10800000" swAng="5400000"/>
                <a:lnTo>
                  <a:pt x="6902" y="0"/>
                </a:lnTo>
                <a:arcTo wR="6902" hR="21600" stAng="-5400000" swAng="441664"/>
                <a:lnTo>
                  <a:pt x="9489" y="1575"/>
                </a:lnTo>
                <a:arcTo wR="6902" hR="21600" stAng="-5841664" swAng="-4958336"/>
                <a:close/>
              </a:path>
            </a:pathLst>
          </a:cu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CC6E12C-CCEE-4707-B6EF-B1356DBB4F5B}" type="datetime1">
              <a:rPr lang="en-US"/>
              <a:t>07/28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809880" y="1346040"/>
            <a:ext cx="4910400" cy="55119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228600"/>
            <a:ext cx="3581280" cy="33238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66"/>
                </a:solidFill>
                <a:latin typeface="Times New Roman"/>
              </a:rPr>
              <a:t>el globo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94B8DA-905A-4346-A574-4A3BC62C535F}" type="datetime1">
              <a:rPr lang="en-US"/>
              <a:t>07/28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3060720" cy="6095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352680" y="609480"/>
            <a:ext cx="5486400" cy="2753640"/>
          </a:xfrm>
          <a:prstGeom prst="rect">
            <a:avLst/>
          </a:prstGeom>
          <a:solidFill>
            <a:srgbClr val="ffcc00"/>
          </a:solidFill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Times New Roman"/>
              </a:rPr>
              <a:t>El pegamento</a:t>
            </a:r>
            <a:r>
              <a:rPr b="1" lang="en-US" sz="10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BACEDF60-A503-48D7-9FEB-72AFF1DAEA5E}" type="datetime1">
              <a:rPr lang="en-US"/>
              <a:t>07/28/26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705360" cy="57308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57200" y="380880"/>
            <a:ext cx="8229600" cy="18770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99"/>
                </a:solidFill>
                <a:latin typeface="Times New Roman"/>
              </a:rPr>
              <a:t>las sillas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031675-A98D-4BD0-8842-BFFA81D34A53}" type="datetime1">
              <a:rPr lang="en-US"/>
              <a:t>07/28/26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5105520" cy="51055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0880" y="0"/>
            <a:ext cx="8305920" cy="2257560"/>
          </a:xfrm>
          <a:prstGeom prst="rect">
            <a:avLst/>
          </a:prstGeom>
          <a:solidFill>
            <a:srgbClr val="99ccff"/>
          </a:solidFill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000000"/>
                </a:solidFill>
                <a:latin typeface="Times New Roman"/>
              </a:rPr>
              <a:t>el reloj</a:t>
            </a:r>
            <a:endParaRPr b="0" lang="en-US" sz="1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5F7D129-06E4-4D3C-A7C4-02C3D6F3608C}" type="datetime1">
              <a:rPr lang="en-US"/>
              <a:t>07/28/26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-838080" y="-285840"/>
            <a:ext cx="10362960" cy="77724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33520" y="4572000"/>
            <a:ext cx="8305560" cy="1557000"/>
          </a:xfrm>
          <a:prstGeom prst="rect">
            <a:avLst/>
          </a:prstGeom>
          <a:solidFill>
            <a:srgbClr val="99ccff"/>
          </a:solidFill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La calculadora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1C9C8D-8661-407A-A6C1-8224E453D8BC}" type="datetime1">
              <a:rPr lang="en-US"/>
              <a:t>07/28/26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533520" y="0"/>
          <a:ext cx="31604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0"/>
                    <a:ext cx="31604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4038480" y="533520"/>
            <a:ext cx="4267440" cy="30200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c00"/>
                </a:solidFill>
                <a:latin typeface="Times New Roman"/>
              </a:rPr>
              <a:t>el compás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2D5E13-83EB-4098-8E61-B07CDD096513}" type="datetime1">
              <a:rPr lang="en-US"/>
              <a:t>07/28/2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1438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990720" y="380880"/>
            <a:ext cx="8153280" cy="20599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0000"/>
                </a:solidFill>
                <a:latin typeface="Times New Roman"/>
              </a:rPr>
              <a:t>el mapa</a:t>
            </a:r>
            <a:endParaRPr b="0" lang="en-US" sz="1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564DF3-2325-4BCB-9846-0518EB440242}" type="datetime1">
              <a:rPr lang="en-US"/>
              <a:t>07/28/26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733920" y="1828800"/>
            <a:ext cx="5076720" cy="62485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0"/>
            <a:ext cx="8915400" cy="1708920"/>
          </a:xfrm>
          <a:prstGeom prst="rect">
            <a:avLst/>
          </a:prstGeom>
          <a:solidFill>
            <a:srgbClr val="ffcc66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cc0000"/>
                </a:solidFill>
                <a:latin typeface="Times New Roman"/>
              </a:rPr>
              <a:t>la ventana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09A125-DF73-4651-B1BF-4780CD3C8FB6}" type="datetime1">
              <a:rPr lang="en-US"/>
              <a:t>07/28/26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4859280" cy="73152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80880" y="304920"/>
            <a:ext cx="8153640" cy="2775240"/>
          </a:xfrm>
          <a:prstGeom prst="rect">
            <a:avLst/>
          </a:prstGeom>
          <a:solidFill>
            <a:srgbClr val="ffcc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Escriban a la pizarra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F667C0-7B6B-4033-86D0-4A16BB97EC93}" type="datetime1">
              <a:rPr lang="en-US"/>
              <a:t>07/28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9144000" cy="35751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371600" y="228600"/>
            <a:ext cx="6553080" cy="2471040"/>
          </a:xfrm>
          <a:prstGeom prst="rect">
            <a:avLst/>
          </a:prstGeom>
          <a:solidFill>
            <a:srgbClr val="ffcc66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ff3300"/>
                </a:solidFill>
                <a:latin typeface="Times New Roman"/>
              </a:rPr>
              <a:t>el libro</a:t>
            </a:r>
            <a:endParaRPr b="0" lang="en-US" sz="1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BD109C-132E-441C-826E-76CCC9270E82}" type="datetime1">
              <a:rPr lang="en-US"/>
              <a:t>07/28/26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486400" y="762120"/>
            <a:ext cx="3657600" cy="423828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366"/>
                </a:solidFill>
                <a:latin typeface="Times New Roman"/>
              </a:rPr>
              <a:t>Levanten</a:t>
            </a:r>
            <a:r>
              <a:rPr b="1" lang="en-US" sz="9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8800" spc="-1" strike="noStrike">
                <a:solidFill>
                  <a:srgbClr val="003366"/>
                </a:solidFill>
                <a:latin typeface="Times New Roman"/>
              </a:rPr>
              <a:t>las manos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5181480" cy="4726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7AFA0D-3F62-46B9-8BB3-FCDDBFF58C33}" type="datetime1">
              <a:rPr lang="en-US"/>
              <a:t>07/28/26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914400" y="4525920"/>
            <a:ext cx="7162920" cy="2059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Times New Roman"/>
              </a:rPr>
              <a:t>Escuchen.</a:t>
            </a:r>
            <a:endParaRPr b="0" lang="en-US" sz="1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BAC37D-4245-4891-AA6A-98033AA1181C}" type="datetime1">
              <a:rPr lang="en-US"/>
              <a:t>07/28/26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315200" cy="48736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ffcc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Escriban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708385-295B-4F59-BF9B-ACFDCC5A6CCF}" type="datetime1">
              <a:rPr lang="en-US"/>
              <a:t>07/28/26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2092320"/>
            <a:ext cx="9144000" cy="47656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362320" y="228600"/>
            <a:ext cx="4952880" cy="2257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3366"/>
                </a:solidFill>
                <a:latin typeface="Times New Roman"/>
              </a:rPr>
              <a:t>Lean.</a:t>
            </a:r>
            <a:endParaRPr b="0" lang="en-US" sz="1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F99876-CE91-4D6A-9030-2C913070E30B}" type="datetime1">
              <a:rPr lang="en-US"/>
              <a:t>07/28/26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781680" cy="54259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09480" y="228600"/>
            <a:ext cx="8001000" cy="17089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los autobuses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75031A1E-05FB-48A1-B68F-2962460F4170}" type="datetime1">
              <a:rPr lang="en-US"/>
              <a:t>07/28/26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924680" cy="61592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04920" y="228600"/>
            <a:ext cx="8534160" cy="13129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Puedo ir al cajón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2AC09128-DC2C-40A3-8927-B0A91C237F10}" type="datetime1">
              <a:rPr lang="en-US"/>
              <a:t>07/28/26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80880" y="5029200"/>
            <a:ext cx="8458200" cy="15570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imes New Roman"/>
              </a:rPr>
              <a:t>la clase de arte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B8268B-C3F9-4C05-89DA-1FC0E735DE8E}" type="datetime1">
              <a:rPr lang="en-US"/>
              <a:t>07/28/2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28600" y="5334120"/>
            <a:ext cx="8915400" cy="1099440"/>
          </a:xfrm>
          <a:prstGeom prst="rect">
            <a:avLst/>
          </a:prstGeom>
          <a:solidFill>
            <a:srgbClr val="ffcc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la clase de francé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2690ED-CB95-4C71-8A44-0DCC0B0DE174}" type="datetime1">
              <a:rPr lang="en-US"/>
              <a:t>07/28/26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-228600" y="-171360"/>
            <a:ext cx="9372600" cy="70293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0" y="5257800"/>
            <a:ext cx="8915400" cy="1312920"/>
          </a:xfrm>
          <a:prstGeom prst="rect">
            <a:avLst/>
          </a:prstGeom>
          <a:solidFill>
            <a:srgbClr val="ffcc00"/>
          </a:solidFill>
          <a:ln w="76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La clase de química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C9ECA80-92A3-4743-A9FE-3963157D8291}" type="datetime1">
              <a:rPr lang="en-US"/>
              <a:t>07/28/26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28600" y="1333440"/>
            <a:ext cx="8001000" cy="57801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85800" y="380880"/>
            <a:ext cx="8001000" cy="7642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bajen con la computador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88CCB8D4-7463-4BCB-BD3D-775B6D371B69}" type="datetime1">
              <a:rPr lang="en-US"/>
              <a:t>07/28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52480" y="2222640"/>
            <a:ext cx="6019920" cy="4635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04920" y="380880"/>
            <a:ext cx="8610480" cy="131292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0099"/>
                </a:solidFill>
                <a:latin typeface="Times New Roman"/>
              </a:rPr>
              <a:t>Los creyone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699EDD-46D2-4272-B364-DECD82D78F55}" type="datetime1">
              <a:rPr lang="en-US"/>
              <a:t>07/28/26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733920" y="1701720"/>
            <a:ext cx="2127240" cy="51562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134040" y="2057400"/>
            <a:ext cx="2559240" cy="41911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-304920" y="2057400"/>
            <a:ext cx="4071960" cy="42670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762120" y="228600"/>
            <a:ext cx="7772400" cy="1099440"/>
          </a:xfrm>
          <a:prstGeom prst="rect">
            <a:avLst/>
          </a:prstGeom>
          <a:solidFill>
            <a:srgbClr val="ffff00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¡Rápido! ¡Apúrense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46097A30-D6DE-4AEF-BC26-798A23DBE7B7}" type="datetime1">
              <a:rPr lang="en-US"/>
              <a:t>07/28/26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5359680" cy="53136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04920" y="380880"/>
            <a:ext cx="8534160" cy="825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aquen apuntes en el cuaderno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609CB839-9E2C-4D8F-B1DB-9E82675051BB}" type="datetime1">
              <a:rPr lang="en-US"/>
              <a:t>07/28/26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28600" y="5638680"/>
            <a:ext cx="8686800" cy="916920"/>
          </a:xfrm>
          <a:prstGeom prst="rect">
            <a:avLst/>
          </a:prstGeom>
          <a:solidFill>
            <a:srgbClr val="6600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la clase de educación física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1D2B593-7152-4D13-A368-D29C32E0C689}" type="datetime1">
              <a:rPr lang="en-US"/>
              <a:t>07/28/26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-380880" y="-285840"/>
            <a:ext cx="9524880" cy="71438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0" y="5105520"/>
            <a:ext cx="8763120" cy="1708920"/>
          </a:xfrm>
          <a:prstGeom prst="rect">
            <a:avLst/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Times New Roman"/>
              </a:rPr>
              <a:t>la biblioteca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658541-267D-4773-8E90-8318F4892D20}" type="datetime1">
              <a:rPr lang="en-US"/>
              <a:t>07/28/26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80880" y="4876920"/>
            <a:ext cx="8534520" cy="1312920"/>
          </a:xfrm>
          <a:prstGeom prst="rect">
            <a:avLst/>
          </a:prstGeom>
          <a:solidFill>
            <a:srgbClr val="6600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la clase de música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F78F3C-0B1E-4800-A65C-E69A46D5AF90}" type="datetime1">
              <a:rPr lang="en-US"/>
              <a:t>07/28/26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5670720" cy="69278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04920" y="380880"/>
            <a:ext cx="8610480" cy="131292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0099"/>
                </a:solidFill>
                <a:latin typeface="Times New Roman"/>
              </a:rPr>
              <a:t>los lapices de cera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80D71DAF-F6A9-4633-8A69-D72E59B49469}" type="datetime1">
              <a:rPr lang="en-US"/>
              <a:t>07/28/26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8077320" cy="60274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57200" y="228600"/>
            <a:ext cx="8305920" cy="1708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3366"/>
                </a:solidFill>
                <a:latin typeface="Times New Roman"/>
              </a:rPr>
              <a:t>la profesora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463640F9-2C01-4CAE-B318-282E81668CD7}" type="datetime1">
              <a:rPr lang="en-US"/>
              <a:t>07/28/2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6477120" cy="62434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533520" y="380880"/>
            <a:ext cx="8610480" cy="1312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99"/>
                </a:solidFill>
                <a:latin typeface="Times New Roman"/>
              </a:rPr>
              <a:t>el sujetapapel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00800" y="1905120"/>
            <a:ext cx="2133720" cy="3657600"/>
          </a:xfrm>
          <a:custGeom>
            <a:avLst/>
            <a:gdLst>
              <a:gd name="textAreaLeft" fmla="*/ 612360 w 2133720"/>
              <a:gd name="textAreaRight" fmla="*/ 1827720 w 2133720"/>
              <a:gd name="textAreaTop" fmla="*/ 2106360 h 3657600"/>
              <a:gd name="textAreaBottom" fmla="*/ 313272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CE26C2C1-C92B-4474-9A5E-B29F8C361327}" type="datetime1">
              <a:rPr lang="en-US"/>
              <a:t>07/28/26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04920" y="304920"/>
            <a:ext cx="4267080" cy="2059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0099"/>
                </a:solidFill>
                <a:latin typeface="Times New Roman"/>
              </a:rPr>
              <a:t>la luz</a:t>
            </a:r>
            <a:endParaRPr b="0" lang="en-US" sz="1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840120" y="-304920"/>
            <a:ext cx="5303880" cy="7162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114A65-C015-4AC1-9E02-08AB5AF4DF63}" type="datetime1">
              <a:rPr lang="en-US"/>
              <a:t>07/28/26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-5724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33520" y="4876920"/>
            <a:ext cx="8610480" cy="1708920"/>
          </a:xfrm>
          <a:prstGeom prst="rect">
            <a:avLst/>
          </a:prstGeom>
          <a:solidFill>
            <a:srgbClr val="cc99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3366"/>
                </a:solidFill>
                <a:latin typeface="Times New Roman"/>
              </a:rPr>
              <a:t>la cafetéria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FA4F0EB-8BE8-47DE-938F-CECBF4E9BCDC}" type="datetime1">
              <a:rPr lang="en-US"/>
              <a:t>07/28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800" y="2500200"/>
            <a:ext cx="7872480" cy="4357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28600" y="304920"/>
            <a:ext cx="8153280" cy="1708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0000"/>
                </a:solidFill>
                <a:latin typeface="Times New Roman"/>
              </a:rPr>
              <a:t>el marcador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B8FACE-2216-426F-84FC-AB70C1B690D0}" type="datetime1">
              <a:rPr lang="en-US"/>
              <a:t>07/28/2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62120" y="4602240"/>
            <a:ext cx="7467480" cy="2257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003366"/>
                </a:solidFill>
                <a:latin typeface="Times New Roman"/>
              </a:rPr>
              <a:t>el pasillo</a:t>
            </a:r>
            <a:endParaRPr b="0" lang="en-US" sz="1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3FCA86-9DD1-4D49-BD12-756ACDDE92C7}" type="datetime1">
              <a:rPr lang="en-US"/>
              <a:t>07/28/26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0"/>
            <a:ext cx="5638680" cy="1434600"/>
          </a:xfrm>
          <a:prstGeom prst="rect">
            <a:avLst/>
          </a:prstGeom>
          <a:solidFill>
            <a:srgbClr val="ff33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la clínica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581280" y="3809880"/>
            <a:ext cx="5562720" cy="1191240"/>
          </a:xfrm>
          <a:prstGeom prst="rect">
            <a:avLst/>
          </a:prstGeom>
          <a:solidFill>
            <a:srgbClr val="ff33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la enfermera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C21073-2BAC-4722-836F-E4200F340599}" type="datetime1">
              <a:rPr lang="en-US"/>
              <a:t>07/28/26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48280" cy="7543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114800" y="380880"/>
            <a:ext cx="4800600" cy="3660120"/>
          </a:xfrm>
          <a:prstGeom prst="rect">
            <a:avLst/>
          </a:prstGeom>
          <a:solidFill>
            <a:srgbClr val="ffcc6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Times New Roman"/>
              </a:rPr>
              <a:t>la puerta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B5A686-0915-435A-8016-69268DC5771E}" type="datetime1">
              <a:rPr lang="en-US"/>
              <a:t>07/28/26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48280" cy="75438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495680" y="228600"/>
            <a:ext cx="4191120" cy="6238080"/>
          </a:xfrm>
          <a:prstGeom prst="rect">
            <a:avLst/>
          </a:prstGeom>
          <a:solidFill>
            <a:srgbClr val="ffcc6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¡Abran la puerta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BFB8E9A-548F-4311-8954-9BB3C0403C54}" type="datetime1">
              <a:rPr lang="en-US"/>
              <a:t>07/28/26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48280" cy="75438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4495680" y="228600"/>
            <a:ext cx="4191120" cy="5213160"/>
          </a:xfrm>
          <a:prstGeom prst="rect">
            <a:avLst/>
          </a:prstGeom>
          <a:solidFill>
            <a:srgbClr val="ffcc6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¡Cierren la puerta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8B1CF5B-77E1-4A7A-B9BB-409124891EDC}" type="datetime1">
              <a:rPr lang="en-US"/>
              <a:t>07/28/26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-533520"/>
            <a:ext cx="10744200" cy="78152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228600" y="-228600"/>
            <a:ext cx="9982080" cy="119124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la grabadora de caset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CEED5A-8A9D-44A1-90FF-585CB1B98089}" type="datetime1">
              <a:rPr lang="en-US"/>
              <a:t>07/28/26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-285840"/>
            <a:ext cx="9524880" cy="714384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236" name=""/>
          <p:cNvSpPr/>
          <p:nvPr/>
        </p:nvSpPr>
        <p:spPr>
          <a:xfrm>
            <a:off x="380880" y="5334120"/>
            <a:ext cx="8915400" cy="1008360"/>
          </a:xfrm>
          <a:prstGeom prst="rect">
            <a:avLst/>
          </a:prstGeom>
          <a:solidFill>
            <a:srgbClr val="6600ff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El estudiante que duerme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DFE6F8-69BA-4B7A-B46B-5B33E6F9D044}" type="datetime1">
              <a:rPr lang="en-US"/>
              <a:t>07/28/2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228600" y="5029200"/>
            <a:ext cx="8686800" cy="1557000"/>
          </a:xfrm>
          <a:prstGeom prst="rect">
            <a:avLst/>
          </a:prstGeom>
          <a:solidFill>
            <a:srgbClr val="00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imes New Roman"/>
              </a:rPr>
              <a:t>la bandera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CE0D926-57A4-4E26-9C6B-A25451ED1EBC}" type="datetime1">
              <a:rPr lang="en-US"/>
              <a:t>07/28/26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09480" y="5562720"/>
            <a:ext cx="8534520" cy="13129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la tabla de bolétin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FBCFD60-0E2D-4053-A829-2324AB915CE0}" type="datetime1">
              <a:rPr lang="en-US"/>
              <a:t>07/28/26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-762120" y="0"/>
            <a:ext cx="9906120" cy="74296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80880" y="4724280"/>
            <a:ext cx="8458200" cy="1877040"/>
          </a:xfrm>
          <a:prstGeom prst="rect">
            <a:avLst/>
          </a:prstGeom>
          <a:solidFill>
            <a:srgbClr val="99993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Times New Roman"/>
              </a:rPr>
              <a:t>la basura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B6A943-8C67-408B-8CA1-938BF394FCC0}" type="datetime1">
              <a:rPr lang="en-US"/>
              <a:t>07/28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817800" y="-611280"/>
            <a:ext cx="5326200" cy="7469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04920" y="449280"/>
            <a:ext cx="3809880" cy="3782160"/>
          </a:xfrm>
          <a:prstGeom prst="rect">
            <a:avLst/>
          </a:prstGeom>
          <a:solidFill>
            <a:srgbClr val="99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los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lápices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1981080"/>
            <a:ext cx="2514600" cy="838440"/>
          </a:xfrm>
          <a:prstGeom prst="rightArrow">
            <a:avLst>
              <a:gd name="adj1" fmla="val 50000"/>
              <a:gd name="adj2" fmla="val 74979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AE58DE-882F-4D03-9B06-9F2C1F13518D}" type="datetime1">
              <a:rPr lang="en-US"/>
              <a:t>07/28/26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685800" y="457200"/>
          <a:ext cx="8229600" cy="43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"/>
                    <a:ext cx="8229600" cy="43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914400" y="4800600"/>
            <a:ext cx="7696080" cy="17089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cc00"/>
                </a:solidFill>
                <a:latin typeface="Times New Roman"/>
              </a:rPr>
              <a:t>el perforator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464E2F-D6A4-4C01-B58B-B71C5B6E46E1}" type="datetime1">
              <a:rPr lang="en-US"/>
              <a:t>07/28/26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990720" y="762120"/>
            <a:ext cx="761976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Repaso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0F2059-5AD8-404F-A6E7-B4CEC3419820}" type="datetime1">
              <a:rPr lang="en-US"/>
              <a:t>07/28/26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99F1EA-179C-41D2-948D-462E31707FAB}" type="datetime1">
              <a:rPr lang="en-US"/>
              <a:t>07/28/26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-762120" y="-228600"/>
            <a:ext cx="10211040" cy="765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0F8396-1D1B-40EB-8DBD-F000C4E928BB}" type="datetime1">
              <a:rPr lang="en-US"/>
              <a:t>07/28/26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14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F83722C-29CB-4483-ADBF-9F6E1E464D43}" type="datetime1">
              <a:rPr lang="en-US"/>
              <a:t>07/28/26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-1905120" y="0"/>
            <a:ext cx="11049120" cy="8286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F1B5A5-FE8E-4779-8B3D-006B820FF9EB}" type="datetime1">
              <a:rPr lang="en-US"/>
              <a:t>07/28/26</a:t>
            </a:fld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-457200" y="0"/>
            <a:ext cx="9601200" cy="720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0046DBD-6282-4EBE-8F30-B471AB25BD25}" type="datetime1">
              <a:rPr lang="en-US"/>
              <a:t>07/28/26</a:t>
            </a:fld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-457200" y="-343080"/>
            <a:ext cx="10287000" cy="720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A48019-C19A-40DE-987E-A8BA63A9F28C}" type="datetime1">
              <a:rPr lang="en-US"/>
              <a:t>07/28/26</a:t>
            </a:fld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-457200" y="0"/>
            <a:ext cx="9601200" cy="720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1EFCC7-A83D-4FB3-B6FD-480242CA0D0C}" type="datetime1">
              <a:rPr lang="en-US"/>
              <a:t>07/28/26</a:t>
            </a:fld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-1295280" y="0"/>
            <a:ext cx="10439280" cy="782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444089-092B-4B3F-A8A4-61D13B761871}" type="datetime1">
              <a:rPr lang="en-US"/>
              <a:t>07/28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-503280"/>
            <a:ext cx="9524880" cy="7620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85800" y="0"/>
            <a:ext cx="8458200" cy="14346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Times New Roman"/>
              </a:rPr>
              <a:t>la hoja de papel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86600" y="1219320"/>
            <a:ext cx="1371600" cy="2209680"/>
          </a:xfrm>
          <a:prstGeom prst="downArrow">
            <a:avLst>
              <a:gd name="adj1" fmla="val 50000"/>
              <a:gd name="adj2" fmla="val 40276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4876920"/>
            <a:ext cx="6629400" cy="195192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3366"/>
                </a:solidFill>
                <a:latin typeface="Times New Roman"/>
              </a:rPr>
              <a:t>la pluma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(el bolígrafo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57600" y="4419720"/>
            <a:ext cx="533520" cy="1218960"/>
          </a:xfrm>
          <a:prstGeom prst="upArrow">
            <a:avLst>
              <a:gd name="adj1" fmla="val 50000"/>
              <a:gd name="adj2" fmla="val 57119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8AD88D-9D1B-4E9F-B6F1-15C6A1F6A491}" type="datetime1">
              <a:rPr lang="en-US"/>
              <a:t>07/28/26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-609480" y="-457200"/>
            <a:ext cx="10134360" cy="760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1988A1-3DB1-4788-BB8A-B2342B57915B}" type="datetime1">
              <a:rPr lang="en-US"/>
              <a:t>07/28/26</a:t>
            </a:fld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714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D8AC625-AB80-41D0-9585-A31C4A427551}" type="datetime1">
              <a:rPr lang="en-US"/>
              <a:t>07/28/26</a:t>
            </a:fld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-609480" y="-571680"/>
            <a:ext cx="10515600" cy="7886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9F3E25-4386-4BA9-915A-2F5CB0CD5D76}" type="datetime1">
              <a:rPr lang="en-US"/>
              <a:t>07/28/26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-380880" y="-17136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B0EF619-5724-4FA0-88D7-711C2B2608E2}" type="datetime1">
              <a:rPr lang="en-US"/>
              <a:t>07/28/26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1EF688-D884-4F42-B860-751F62A196E6}" type="datetime1">
              <a:rPr lang="en-US"/>
              <a:t>07/28/26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-457200" y="0"/>
            <a:ext cx="9601200" cy="720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1F95496-95CE-434B-AB7A-53138C8741F8}" type="datetime1">
              <a:rPr lang="en-US"/>
              <a:t>07/28/26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-399960"/>
            <a:ext cx="9677520" cy="7257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4DB7E3-F364-44F2-AFB1-58F7EFF00E43}" type="datetime1">
              <a:rPr lang="en-US"/>
              <a:t>07/28/2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-228600" y="-171360"/>
            <a:ext cx="9372600" cy="7029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CFA092-51E5-4BFC-948E-E9781177B37E}" type="datetime1">
              <a:rPr lang="en-US"/>
              <a:t>07/28/26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-380880" y="-285840"/>
            <a:ext cx="9524880" cy="714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3206F43-901C-4532-B6ED-626098B167EE}" type="datetime1">
              <a:rPr lang="en-US"/>
              <a:t>07/28/26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164599-A23C-4B4E-A69C-9C080ECF248F}" type="datetime1">
              <a:rPr lang="en-US"/>
              <a:t>07/28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286000" y="0"/>
            <a:ext cx="6858000" cy="18770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66"/>
                </a:solidFill>
                <a:latin typeface="Times New Roman"/>
              </a:rPr>
              <a:t>el elástico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573080-8DE3-4C97-B388-659ACA5F9A39}" type="datetime1">
              <a:rPr lang="en-US"/>
              <a:t>07/28/26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1B67C2-76ED-4B61-8B53-AFB9309962C8}" type="datetime1">
              <a:rPr lang="en-US"/>
              <a:t>07/28/26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2D1C96-9B0A-4EEA-A95D-B3EE4A9626C3}" type="datetime1">
              <a:rPr lang="en-US"/>
              <a:t>07/28/26</a:t>
            </a:fld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3F616F-A8F5-4267-B8C3-3294E4878A98}" type="datetime1">
              <a:rPr lang="en-US"/>
              <a:t>07/28/26</a:t>
            </a:fld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-228600" y="-171360"/>
            <a:ext cx="9372600" cy="7029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F85CD42-83CB-4FB0-A86C-6DC7C12F3BF1}" type="datetime1">
              <a:rPr lang="en-US"/>
              <a:t>07/28/26</a:t>
            </a:fld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2000160" y="-304920"/>
            <a:ext cx="5372280" cy="7162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5C6EDA1-77EC-408B-91B7-ADCC8616494A}" type="datetime1">
              <a:rPr lang="en-US"/>
              <a:t>07/28/26</a:t>
            </a:fld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37B573-1C38-4E76-8971-CD7AD709A6D8}" type="datetime1">
              <a:rPr lang="en-US"/>
              <a:t>07/28/26</a:t>
            </a:fld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236DD5-0B82-4B0E-8588-D56D001C6715}" type="datetime1">
              <a:rPr lang="en-US"/>
              <a:t>07/28/2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3A0E88C-6BEA-464E-A009-5AE15AB359FF}" type="datetime1">
              <a:rPr lang="en-US"/>
              <a:t>07/28/26</a:t>
            </a:fld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C322162-C596-493E-8219-7DEAD770C784}" type="datetime1">
              <a:rPr lang="en-US"/>
              <a:t>07/28/26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-762120" y="0"/>
            <a:ext cx="9906120" cy="742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E57CF5-F73B-4269-B8AD-DC9BB1B4A556}" type="datetime1">
              <a:rPr lang="en-US"/>
              <a:t>07/28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0T00:43:03Z</dcterms:created>
  <dc:creator>Newport News</dc:creator>
  <dc:description/>
  <dc:language>en-US</dc:language>
  <cp:lastModifiedBy>mknobbe</cp:lastModifiedBy>
  <dcterms:modified xsi:type="dcterms:W3CDTF">2009-01-05T16:29:07Z</dcterms:modified>
  <cp:revision>60</cp:revision>
  <dc:subject/>
  <dc:title>No Slide Title</dc:title>
</cp:coreProperties>
</file>