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665C-5069-44AA-B794-391C89FFB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7C76-1931-413F-9BD5-818E81E25F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8E6-8E1F-4FD4-9DF0-2F715A59C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46AF-4F9A-4FA8-A434-12BA34C86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EC53-4D52-4C94-819B-CF921AD6D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DBE7-95D4-4E7F-84A4-6A18DE6F4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0E4B-B9EE-48C0-B10D-7474A9E4F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1815-0CC5-49A4-8EED-B1E77F744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6B5E-0BDF-4D14-8ECB-22AF9B13D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D520-9466-414B-BEA5-70A0D0E62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877-65A7-4E1F-8305-CD556998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34F-26E5-4DFB-9599-D6E3D38A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5E3-2754-4B22-A1B3-5B4B3BA9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9D4-1321-428D-86AF-60E0CED7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326-E849-4BF9-A75B-E8681217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35F-CA3C-4C0D-8551-810B3C1D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AC6-652E-4AEF-9B4C-AAB37AC6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E13-D5C4-47DC-9D93-F8D6874E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133-833A-4217-A424-8BB5E5AD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78F-D8E4-4DC8-80AA-4F4A746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EE1-89E1-48A4-9AF1-529B5B7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076-D983-4957-808E-ACAE4EB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DC9D-86E0-4B24-AB37-C120F35E8A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18:36:34Z</dcterms:modified>
  <cp:revision>12</cp:revision>
  <dc:subject/>
  <dc:title>¿Dónde está...?</dc:title>
</cp:coreProperties>
</file>