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9C46-FB4D-43E2-9531-45A6448B5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481A-1D4E-437A-A192-6566874AC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6E66-7788-45A9-BD99-17B89852A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actice; hide Leo around room for pupils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81E-0413-4C44-9361-3C2228B3FD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C6F3-D307-408D-9144-661944F7C0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pe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1E91-CB85-409A-ADD5-BCA36398C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adio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F619-FD57-4136-B7F7-208AB5595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gh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FB4F-BBB5-4332-8872-F0E3134270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uter and poster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47E7-4F73-41F7-AADF-B50FD81D5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ble and lamp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0038-DFC2-4E1E-83AA-90DA9C2FAA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ardrobe and bed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AFC-71E3-4914-93C3-8677BF39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4C9-EEF1-43FD-8E87-4335ADED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6382-A5BC-41D9-91CD-2E1D7FBB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39A-38C3-46DC-A8FE-8FAD453E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A27-CB04-41BB-A34D-D23E7A22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6A5-E09B-41A4-95C8-D5F5AED9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B10-A3C6-4F94-AE59-55AE002C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CEF-0978-43B8-8016-CC00663E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A9E-BF74-499A-B032-E450E832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DBD-41D3-42C4-B4D7-388CD1B7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731-E0F0-4AF7-AA7B-E5995C88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9ED-CB58-4D1B-A466-7AD60789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24E4-CCD7-4D37-B9FB-C28231FE00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MCj02978390000[1]"/>
          <p:cNvPicPr/>
          <p:nvPr/>
        </p:nvPicPr>
        <p:blipFill>
          <a:blip r:embed="rId10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1924710000[1]"/>
          <p:cNvPicPr/>
          <p:nvPr/>
        </p:nvPicPr>
        <p:blipFill>
          <a:blip r:embed="rId11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2873450000[1]"/>
          <p:cNvPicPr/>
          <p:nvPr/>
        </p:nvPicPr>
        <p:blipFill>
          <a:blip r:embed="rId12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2315380000[1]"/>
          <p:cNvPicPr/>
          <p:nvPr/>
        </p:nvPicPr>
        <p:blipFill>
          <a:blip r:embed="rId13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MCj01374990000[1]"/>
          <p:cNvPicPr/>
          <p:nvPr/>
        </p:nvPicPr>
        <p:blipFill>
          <a:blip r:embed="rId14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3"/>
          <p:cNvSpPr/>
          <p:nvPr/>
        </p:nvSpPr>
        <p:spPr>
          <a:xfrm>
            <a:off x="316440" y="18900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cuarto (habitación, dormitorio, recáma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lcob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78136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de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arm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o2ohq0jy[1]"/>
          <p:cNvPicPr/>
          <p:nvPr/>
        </p:nvPicPr>
        <p:blipFill>
          <a:blip r:embed="rId3"/>
          <a:stretch/>
        </p:blipFill>
        <p:spPr>
          <a:xfrm>
            <a:off x="3348000" y="3645000"/>
            <a:ext cx="2406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6640"/>
            <a:ext cx="865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¡Es muy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4321080" cy="19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s-ES" sz="4800" spc="-1" strike="noStrike">
                <a:solidFill>
                  <a:srgbClr val="0000ff"/>
                </a:solidFill>
                <a:latin typeface="Comic Sans MS"/>
              </a:rPr>
              <a:t>el</a:t>
            </a:r>
            <a:r>
              <a:rPr b="0" i="1" lang="es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48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De +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37372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30064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oncar"/>
          <p:cNvPicPr/>
          <p:nvPr/>
        </p:nvPicPr>
        <p:blipFill>
          <a:blip r:embed="rId2"/>
          <a:stretch/>
        </p:blipFill>
        <p:spPr>
          <a:xfrm>
            <a:off x="3348000" y="4941720"/>
            <a:ext cx="86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lioncar"/>
          <p:cNvPicPr/>
          <p:nvPr/>
        </p:nvPicPr>
        <p:blipFill>
          <a:blip r:embed="rId1"/>
          <a:stretch/>
        </p:blipFill>
        <p:spPr>
          <a:xfrm>
            <a:off x="3924360" y="4221000"/>
            <a:ext cx="865080" cy="102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H00865_"/>
          <p:cNvPicPr/>
          <p:nvPr/>
        </p:nvPicPr>
        <p:blipFill>
          <a:blip r:embed="rId2"/>
          <a:stretch/>
        </p:blipFill>
        <p:spPr>
          <a:xfrm>
            <a:off x="3132000" y="2565360"/>
            <a:ext cx="3178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2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5280" y="2421000"/>
            <a:ext cx="25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771640" y="3429000"/>
            <a:ext cx="180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65164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o2ohq0jy[1]"/>
          <p:cNvPicPr/>
          <p:nvPr/>
        </p:nvPicPr>
        <p:blipFill>
          <a:blip r:embed="rId1"/>
          <a:stretch/>
        </p:blipFill>
        <p:spPr>
          <a:xfrm>
            <a:off x="6300720" y="1773360"/>
            <a:ext cx="1343160" cy="15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H00865_"/>
          <p:cNvPicPr/>
          <p:nvPr/>
        </p:nvPicPr>
        <p:blipFill>
          <a:blip r:embed="rId2"/>
          <a:stretch/>
        </p:blipFill>
        <p:spPr>
          <a:xfrm>
            <a:off x="6156360" y="3645000"/>
            <a:ext cx="15778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bedroom-decorating-ideas.net/image-files/FUNKYROOM.jpg"/>
          <p:cNvPicPr/>
          <p:nvPr/>
        </p:nvPicPr>
        <p:blipFill>
          <a:blip r:embed="rId2"/>
          <a:stretch/>
        </p:blipFill>
        <p:spPr>
          <a:xfrm>
            <a:off x="444600" y="452520"/>
            <a:ext cx="8286480" cy="63579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373560" y="43257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306560" y="1989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40360" y="285264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882800" y="134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2446200" y="32050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501000" y="1989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7323120" y="25909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422960" y="2476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0"/>
          <p:cNvCxnSpPr/>
          <p:nvPr/>
        </p:nvCxnSpPr>
        <p:spPr>
          <a:xfrm flipH="1" flipV="1">
            <a:off x="4039920" y="2622600"/>
            <a:ext cx="373680" cy="30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4" name="Straight Connector 12"/>
          <p:cNvSpPr/>
          <p:nvPr/>
        </p:nvSpPr>
        <p:spPr>
          <a:xfrm>
            <a:off x="9685440" y="45878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6"/>
          <p:cNvCxnSpPr/>
          <p:nvPr/>
        </p:nvCxnSpPr>
        <p:spPr>
          <a:xfrm flipH="1" flipV="1">
            <a:off x="3849120" y="2937600"/>
            <a:ext cx="448200" cy="23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Straight Arrow Connector 19"/>
          <p:cNvCxnSpPr/>
          <p:nvPr/>
        </p:nvCxnSpPr>
        <p:spPr>
          <a:xfrm>
            <a:off x="3634920" y="1687320"/>
            <a:ext cx="66276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Straight Arrow Connector 23"/>
          <p:cNvCxnSpPr/>
          <p:nvPr/>
        </p:nvCxnSpPr>
        <p:spPr>
          <a:xfrm flipH="1" flipV="1">
            <a:off x="6851160" y="2099880"/>
            <a:ext cx="448560" cy="239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>
            <a:off x="8022960" y="2937960"/>
            <a:ext cx="224640" cy="497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7061040" y="4383000"/>
            <a:ext cx="1621080" cy="2265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us.123rf.com/400wm/400/400/styleuneed/styleuneed1207/styleuneed120700672/14453150-pequeno-reloj-de-alarma-de-color-rosa-sobre-un-fondo-blanco.jpg"/>
          <p:cNvPicPr/>
          <p:nvPr/>
        </p:nvPicPr>
        <p:blipFill>
          <a:blip r:embed="rId4"/>
          <a:stretch/>
        </p:blipFill>
        <p:spPr>
          <a:xfrm>
            <a:off x="438120" y="4896000"/>
            <a:ext cx="155268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2"/>
          <p:cNvSpPr/>
          <p:nvPr/>
        </p:nvSpPr>
        <p:spPr>
          <a:xfrm>
            <a:off x="2056320" y="6021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5"/>
          <p:cNvSpPr/>
          <p:nvPr/>
        </p:nvSpPr>
        <p:spPr>
          <a:xfrm>
            <a:off x="5347800" y="62514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sp>
        <p:nvSpPr>
          <p:cNvPr id="11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CHH00857_0000[1]"/>
          <p:cNvPicPr/>
          <p:nvPr/>
        </p:nvPicPr>
        <p:blipFill>
          <a:blip r:embed="rId1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60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MCj02151700000[1]"/>
          <p:cNvPicPr/>
          <p:nvPr/>
        </p:nvPicPr>
        <p:blipFill>
          <a:blip r:embed="rId4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MCj03015140000[1]"/>
          <p:cNvPicPr/>
          <p:nvPr/>
        </p:nvPicPr>
        <p:blipFill>
          <a:blip r:embed="rId5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MCj02374270000[1]"/>
          <p:cNvPicPr/>
          <p:nvPr/>
        </p:nvPicPr>
        <p:blipFill>
          <a:blip r:embed="rId6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92280"/>
            <a:ext cx="25718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c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H00874_"/>
          <p:cNvPicPr/>
          <p:nvPr/>
        </p:nvPicPr>
        <p:blipFill>
          <a:blip r:embed="rId3"/>
          <a:stretch/>
        </p:blipFill>
        <p:spPr>
          <a:xfrm>
            <a:off x="2987640" y="2997360"/>
            <a:ext cx="30258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5:42Z</dcterms:created>
  <dc:creator>s.lunn</dc:creator>
  <dc:description/>
  <dc:language>en-US</dc:language>
  <cp:lastModifiedBy>CCGAFaculty21</cp:lastModifiedBy>
  <dcterms:modified xsi:type="dcterms:W3CDTF">2013-03-12T18:36:34Z</dcterms:modified>
  <cp:revision>12</cp:revision>
  <dc:subject/>
  <dc:title>¿Dónde está...?</dc:title>
</cp:coreProperties>
</file>