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BA68-CB48-4A8E-842D-36A61CE31A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C679-A834-4D53-ADB6-D73ACCE76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E2C5-FA68-4253-9A65-FCE59A53CE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B1D-6144-4FF1-80DA-09F056F6D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81A-CFBA-40E8-89A2-4A64EB7C7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9310-C58A-414D-906A-64D62F117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3B4E-51F4-4794-B4AB-A8BC259E07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301C-6753-4F21-9EF5-A4BDD81A15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6987-9842-44DB-B525-7FCFC28E4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03E7-21DD-4A74-AB28-CE501F77CC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23B5-F9D4-48F1-B8B3-144CAC50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0CC-F9EA-46A1-9B9D-423A8BD3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75C-ECED-4480-B6CA-A533D5E7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299-8CC6-4179-9CDC-C2484C4C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DBC-CF13-47FA-B0FA-E4EE4C45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EA2-0107-4AF1-9F19-FEF39224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F27-59DD-42C9-A36E-86024A2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8FB-4B04-4EFA-847D-3A5596FE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D9EC-258A-4C1C-B095-A5A4D5FF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700-BA27-4591-9CBB-54054EB3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90B-30DD-4CF4-BC56-85135E64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1B1-9ED3-4399-9464-3207CD5F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5C7D-8E81-4577-A405-160996EA90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6"/>
          <p:cNvSpPr/>
          <p:nvPr/>
        </p:nvSpPr>
        <p:spPr>
          <a:xfrm>
            <a:off x="2589120" y="368316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alfom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20:51:09Z</dcterms:modified>
  <cp:revision>16</cp:revision>
  <dc:subject/>
  <dc:title>¿Dónde está...?</dc:title>
</cp:coreProperties>
</file>