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0EEC-E296-435F-B335-6AB341C61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FCCD-7BEB-46B8-AF68-FB9B468207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57B0-631E-4D3D-9638-245317E03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actice; hide Leo around room for pupils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AD3C-C41F-41DA-A7DE-59D3D2CB7D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4F59-6B01-47F6-B672-D50FF921E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pe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24A8-0097-4AC2-942E-0ECB70A69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adio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6CA1-331E-403A-8517-99243DD5EA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gh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E89-DD67-43AD-B0CC-E144D62F4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uter and poster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0EF9-66BD-44DF-9D9D-7F7C1ADF9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ble and lamp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E2BC-1275-4B02-9005-1B47F5806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rdrobe and bed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32F-CA9D-44B9-9D32-F2CE20F3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5F8-3F1F-45B6-B9E8-4E54CE30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99E-1201-4FB5-B21A-F33061E5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75F-1EFE-4014-9A42-844E9331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880-FBEA-416B-B760-DFCEB99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E6A-CDC5-4F32-BDD0-3B942CA5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CF7-4D79-48D3-B14C-BBDF70AB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5F1-4089-4E93-8239-E296B16A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B07-E862-444B-A171-C996F56D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8AE-8262-4010-B9CF-88E416D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6E5-4340-46CB-9CFA-4FEDDF1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6AE-15E3-42B0-9E75-17203CC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5216-66EC-4A11-8FDE-C484C85988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MCj02978390000[1]"/>
          <p:cNvPicPr/>
          <p:nvPr/>
        </p:nvPicPr>
        <p:blipFill>
          <a:blip r:embed="rId10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1924710000[1]"/>
          <p:cNvPicPr/>
          <p:nvPr/>
        </p:nvPicPr>
        <p:blipFill>
          <a:blip r:embed="rId11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2873450000[1]"/>
          <p:cNvPicPr/>
          <p:nvPr/>
        </p:nvPicPr>
        <p:blipFill>
          <a:blip r:embed="rId12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2315380000[1]"/>
          <p:cNvPicPr/>
          <p:nvPr/>
        </p:nvPicPr>
        <p:blipFill>
          <a:blip r:embed="rId13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MCj01374990000[1]"/>
          <p:cNvPicPr/>
          <p:nvPr/>
        </p:nvPicPr>
        <p:blipFill>
          <a:blip r:embed="rId14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3"/>
          <p:cNvSpPr/>
          <p:nvPr/>
        </p:nvSpPr>
        <p:spPr>
          <a:xfrm>
            <a:off x="316440" y="18900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cuarto (habitación, dormitorio, recáma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lcob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78136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de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arm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o2ohq0jy[1]"/>
          <p:cNvPicPr/>
          <p:nvPr/>
        </p:nvPicPr>
        <p:blipFill>
          <a:blip r:embed="rId3"/>
          <a:stretch/>
        </p:blipFill>
        <p:spPr>
          <a:xfrm>
            <a:off x="3348000" y="3645000"/>
            <a:ext cx="2406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6640"/>
            <a:ext cx="865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¡Es muy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4321080" cy="19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s-ES" sz="4800" spc="-1" strike="noStrike">
                <a:solidFill>
                  <a:srgbClr val="0000ff"/>
                </a:solidFill>
                <a:latin typeface="Comic Sans MS"/>
              </a:rPr>
              <a:t>el</a:t>
            </a:r>
            <a:r>
              <a:rPr b="0" i="1" lang="es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48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De +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37372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30064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oncar"/>
          <p:cNvPicPr/>
          <p:nvPr/>
        </p:nvPicPr>
        <p:blipFill>
          <a:blip r:embed="rId2"/>
          <a:stretch/>
        </p:blipFill>
        <p:spPr>
          <a:xfrm>
            <a:off x="3348000" y="4941720"/>
            <a:ext cx="86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lioncar"/>
          <p:cNvPicPr/>
          <p:nvPr/>
        </p:nvPicPr>
        <p:blipFill>
          <a:blip r:embed="rId1"/>
          <a:stretch/>
        </p:blipFill>
        <p:spPr>
          <a:xfrm>
            <a:off x="3924360" y="4221000"/>
            <a:ext cx="865080" cy="102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H00865_"/>
          <p:cNvPicPr/>
          <p:nvPr/>
        </p:nvPicPr>
        <p:blipFill>
          <a:blip r:embed="rId2"/>
          <a:stretch/>
        </p:blipFill>
        <p:spPr>
          <a:xfrm>
            <a:off x="3132000" y="2565360"/>
            <a:ext cx="3178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2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2421000"/>
            <a:ext cx="25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771640" y="3429000"/>
            <a:ext cx="18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65164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o2ohq0jy[1]"/>
          <p:cNvPicPr/>
          <p:nvPr/>
        </p:nvPicPr>
        <p:blipFill>
          <a:blip r:embed="rId1"/>
          <a:stretch/>
        </p:blipFill>
        <p:spPr>
          <a:xfrm>
            <a:off x="6300720" y="1773360"/>
            <a:ext cx="1343160" cy="15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H00865_"/>
          <p:cNvPicPr/>
          <p:nvPr/>
        </p:nvPicPr>
        <p:blipFill>
          <a:blip r:embed="rId2"/>
          <a:stretch/>
        </p:blipFill>
        <p:spPr>
          <a:xfrm>
            <a:off x="6156360" y="3645000"/>
            <a:ext cx="15778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bedroom-decorating-ideas.net/image-files/FUNKYROOM.jpg"/>
          <p:cNvPicPr/>
          <p:nvPr/>
        </p:nvPicPr>
        <p:blipFill>
          <a:blip r:embed="rId2"/>
          <a:stretch/>
        </p:blipFill>
        <p:spPr>
          <a:xfrm>
            <a:off x="444600" y="452520"/>
            <a:ext cx="828648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73560" y="4325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06560" y="1989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40360" y="28526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882800" y="134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2446200" y="32050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501000" y="1989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323120" y="2590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422960" y="2476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0"/>
          <p:cNvCxnSpPr/>
          <p:nvPr/>
        </p:nvCxnSpPr>
        <p:spPr>
          <a:xfrm flipH="1" flipV="1">
            <a:off x="4039920" y="2622600"/>
            <a:ext cx="373680" cy="30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4" name="Straight Connector 12"/>
          <p:cNvSpPr/>
          <p:nvPr/>
        </p:nvSpPr>
        <p:spPr>
          <a:xfrm>
            <a:off x="9685440" y="45878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6"/>
          <p:cNvCxnSpPr/>
          <p:nvPr/>
        </p:nvCxnSpPr>
        <p:spPr>
          <a:xfrm flipH="1" flipV="1">
            <a:off x="3849120" y="2937600"/>
            <a:ext cx="448200" cy="23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Straight Arrow Connector 19"/>
          <p:cNvCxnSpPr/>
          <p:nvPr/>
        </p:nvCxnSpPr>
        <p:spPr>
          <a:xfrm>
            <a:off x="3634920" y="1687320"/>
            <a:ext cx="66276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Straight Arrow Connector 23"/>
          <p:cNvCxnSpPr/>
          <p:nvPr/>
        </p:nvCxnSpPr>
        <p:spPr>
          <a:xfrm flipH="1" flipV="1">
            <a:off x="6851160" y="2099880"/>
            <a:ext cx="448560" cy="239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>
            <a:off x="8022960" y="2937960"/>
            <a:ext cx="224640" cy="49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7061040" y="4383000"/>
            <a:ext cx="1621080" cy="226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us.123rf.com/400wm/400/400/styleuneed/styleuneed1207/styleuneed120700672/14453150-pequeno-reloj-de-alarma-de-color-rosa-sobre-un-fondo-blanco.jpg"/>
          <p:cNvPicPr/>
          <p:nvPr/>
        </p:nvPicPr>
        <p:blipFill>
          <a:blip r:embed="rId4"/>
          <a:stretch/>
        </p:blipFill>
        <p:spPr>
          <a:xfrm>
            <a:off x="438120" y="4896000"/>
            <a:ext cx="155268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2"/>
          <p:cNvSpPr/>
          <p:nvPr/>
        </p:nvSpPr>
        <p:spPr>
          <a:xfrm>
            <a:off x="2056320" y="6021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347800" y="62514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6"/>
          <p:cNvSpPr/>
          <p:nvPr/>
        </p:nvSpPr>
        <p:spPr>
          <a:xfrm>
            <a:off x="2589120" y="368316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sp>
        <p:nvSpPr>
          <p:cNvPr id="11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CHH00857_0000[1]"/>
          <p:cNvPicPr/>
          <p:nvPr/>
        </p:nvPicPr>
        <p:blipFill>
          <a:blip r:embed="rId1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60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MCj02151700000[1]"/>
          <p:cNvPicPr/>
          <p:nvPr/>
        </p:nvPicPr>
        <p:blipFill>
          <a:blip r:embed="rId4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MCj03015140000[1]"/>
          <p:cNvPicPr/>
          <p:nvPr/>
        </p:nvPicPr>
        <p:blipFill>
          <a:blip r:embed="rId5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MCj02374270000[1]"/>
          <p:cNvPicPr/>
          <p:nvPr/>
        </p:nvPicPr>
        <p:blipFill>
          <a:blip r:embed="rId6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92280"/>
            <a:ext cx="25718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H00874_"/>
          <p:cNvPicPr/>
          <p:nvPr/>
        </p:nvPicPr>
        <p:blipFill>
          <a:blip r:embed="rId3"/>
          <a:stretch/>
        </p:blipFill>
        <p:spPr>
          <a:xfrm>
            <a:off x="2987640" y="2997360"/>
            <a:ext cx="30258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5:42Z</dcterms:created>
  <dc:creator>s.lunn</dc:creator>
  <dc:description/>
  <dc:language>en-US</dc:language>
  <cp:lastModifiedBy>CCGAFaculty21</cp:lastModifiedBy>
  <dcterms:modified xsi:type="dcterms:W3CDTF">2013-03-12T20:51:09Z</dcterms:modified>
  <cp:revision>16</cp:revision>
  <dc:subject/>
  <dc:title>¿Dónde está...?</dc:title>
</cp:coreProperties>
</file>